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gif" ContentType="image/gif"/>
  <Override PartName="/ppt/media/image15.gif" ContentType="image/gif"/>
  <Override PartName="/ppt/media/image1.png" ContentType="image/png"/>
  <Override PartName="/ppt/media/image14.png" ContentType="image/png"/>
  <Override PartName="/ppt/media/image5.gif" ContentType="image/gif"/>
  <Override PartName="/ppt/media/image2.png" ContentType="image/pn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0FCE-BE45-4F53-B12B-CF0AB6F6A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84B-253B-40A1-BB1F-9E14B8236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128D-BCF6-4FF7-9EEE-A5FD4362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A393-FB90-45CA-9DF9-7A3F3ECD4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53D0-4643-462A-930E-4DBB629C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9CE1A-07E7-4D4B-A005-4A90DFCBD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83A90-260F-48E3-82F8-974B86526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03BB-AD5A-45A0-853A-EE642CD6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F1270-F7C2-494B-8621-FC5A8327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9AA5-776D-4631-838C-E23651B6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44BC-DA29-4C3D-81FF-174C77518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CA35-6C07-4032-8B9C-224EBFD7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A55FB-772D-433D-A981-ED68FB89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5F80-8567-4EE7-9587-08BE75FDA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73747-B9C3-4C88-89E8-3C94ECECE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24EC-7892-4021-974F-5E5AD0C02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8FC6-64E7-4246-8634-3300B7B80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2D9F4-1246-4271-AF8E-CAD6D18D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A6B6A-7F25-4384-824B-7AC13A5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C7300-8198-4FCE-8E50-88A54031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59374-E979-4757-AB8C-8370F0EC3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7EA02-3BA6-445F-A4D2-4640DE6F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EFDB-4C01-494A-9955-F6330363F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62501-802B-4BB5-A46A-EA2C877A4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F73FC-FACE-4BAD-9DFD-474FC3C3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B3129-2F83-48E0-B0F4-4D3C8A48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FC8AB-413A-4A63-B413-BCA665D5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27374-8870-40AD-A3DC-81AE74872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7C5AE-C7A0-478B-AFB1-793EFF69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6E00C-9492-4712-8E36-F8DF66A9E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C8103-ACF1-4997-9E54-0BB76BFA6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366BE4-8E81-4A89-86B5-C510BD99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EA95D3-0218-458C-BD5B-4C66ADD3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04AE-D5E6-40B3-A3AD-D8752A77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FAACB-1C31-48F5-A420-8269DDE4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774CA-34C1-4F0A-8E81-231B12C99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937BF6-4D62-48B9-8A97-30FC6EA46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A7F7-61DB-4615-BD8C-2270F3CE5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623E20-9207-4C57-8AA6-71A37788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E60A4-85D7-4629-B9CB-5B0E98D9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49C4B2-32AC-480B-8123-07BE98CD3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543BC-3535-497F-AE7B-900A9C60D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D65164-04B2-46B6-AD47-53647BABA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1BA1-3EF9-468B-B8F0-5639ABA82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B619-4A8D-4676-9CED-F0782318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F683-3889-4794-8A1E-A3835F9D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B74F-591C-4FC8-9BEB-4B6BC4838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03D2-E1D4-425A-B855-B0A45A92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Picture 7" descr="grapes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Group 8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Rectangle 9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00"/>
                    </a:gs>
                    <a:gs pos="100000">
                      <a:srgbClr val="99ff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" name="Rectangle 10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99ff99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9" name="Rectangle 11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722A-EDA5-4010-8C8F-C8954E7B8694}" type="slidenum">
              <a:rPr b="0" lang="ru-RU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FD3C-65FC-4730-89E5-56C18B997A20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58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grpSp>
        <p:nvGrpSpPr>
          <p:cNvPr id="5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60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1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2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3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4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5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6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7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68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6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7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7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  <p:sp>
            <p:nvSpPr>
              <p:cNvPr id="7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7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7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7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7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8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87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88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  <p:grpSp>
        <p:nvGrpSpPr>
          <p:cNvPr id="89" name="Group 40"/>
          <p:cNvGrpSpPr/>
          <p:nvPr/>
        </p:nvGrpSpPr>
        <p:grpSpPr>
          <a:xfrm>
            <a:off x="7167960" y="-82800"/>
            <a:ext cx="2434680" cy="2256840"/>
            <a:chOff x="7167960" y="-82800"/>
            <a:chExt cx="2434680" cy="2256840"/>
          </a:xfrm>
        </p:grpSpPr>
        <p:grpSp>
          <p:nvGrpSpPr>
            <p:cNvPr id="90" name="Group 41"/>
            <p:cNvGrpSpPr/>
            <p:nvPr/>
          </p:nvGrpSpPr>
          <p:grpSpPr>
            <a:xfrm>
              <a:off x="7167960" y="-82800"/>
              <a:ext cx="2434680" cy="2256840"/>
              <a:chOff x="7167960" y="-82800"/>
              <a:chExt cx="2434680" cy="2256840"/>
            </a:xfrm>
          </p:grpSpPr>
          <p:sp>
            <p:nvSpPr>
              <p:cNvPr id="9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grpSp>
            <p:nvGrpSpPr>
              <p:cNvPr id="92" name="Group 43"/>
              <p:cNvGrpSpPr/>
              <p:nvPr/>
            </p:nvGrpSpPr>
            <p:grpSpPr>
              <a:xfrm>
                <a:off x="7167960" y="-82800"/>
                <a:ext cx="2434680" cy="2256840"/>
                <a:chOff x="7167960" y="-82800"/>
                <a:chExt cx="2434680" cy="2256840"/>
              </a:xfrm>
            </p:grpSpPr>
            <p:sp>
              <p:nvSpPr>
                <p:cNvPr id="93" name="Freeform 44"/>
                <p:cNvSpPr/>
                <p:nvPr/>
              </p:nvSpPr>
              <p:spPr>
                <a:xfrm rot="18427200">
                  <a:off x="7882560" y="113400"/>
                  <a:ext cx="24516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4" name="Freeform 45"/>
                <p:cNvSpPr/>
                <p:nvPr/>
              </p:nvSpPr>
              <p:spPr>
                <a:xfrm rot="18427200">
                  <a:off x="8047080" y="498600"/>
                  <a:ext cx="43164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5" name="Freeform 46"/>
                <p:cNvSpPr/>
                <p:nvPr/>
              </p:nvSpPr>
              <p:spPr>
                <a:xfrm rot="18427200">
                  <a:off x="7743600" y="261360"/>
                  <a:ext cx="80964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6" name="Freeform 47"/>
                <p:cNvSpPr/>
                <p:nvPr/>
              </p:nvSpPr>
              <p:spPr>
                <a:xfrm rot="18427200">
                  <a:off x="7777440" y="-20880"/>
                  <a:ext cx="121572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7" name="Freeform 48"/>
                <p:cNvSpPr/>
                <p:nvPr/>
              </p:nvSpPr>
              <p:spPr>
                <a:xfrm rot="18427200">
                  <a:off x="8443440" y="1401840"/>
                  <a:ext cx="27072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8" name="Freeform 49"/>
                <p:cNvSpPr/>
                <p:nvPr/>
              </p:nvSpPr>
              <p:spPr>
                <a:xfrm rot="18427200">
                  <a:off x="8338320" y="1256040"/>
                  <a:ext cx="29052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99" name="Freeform 50"/>
                <p:cNvSpPr/>
                <p:nvPr/>
              </p:nvSpPr>
              <p:spPr>
                <a:xfrm rot="18427200">
                  <a:off x="7911720" y="336600"/>
                  <a:ext cx="29016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  <p:sp>
              <p:nvSpPr>
                <p:cNvPr id="100" name="Freeform 51"/>
                <p:cNvSpPr/>
                <p:nvPr/>
              </p:nvSpPr>
              <p:spPr>
                <a:xfrm rot="18427200">
                  <a:off x="7887600" y="191160"/>
                  <a:ext cx="28692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 u="sng">
                    <a:solidFill>
                      <a:srgbClr val="660066"/>
                    </a:solidFill>
                    <a:uFillTx/>
                    <a:latin typeface="Times New Roman"/>
                  </a:endParaRPr>
                </a:p>
              </p:txBody>
            </p:sp>
          </p:grpSp>
        </p:grpSp>
        <p:sp>
          <p:nvSpPr>
            <p:cNvPr id="10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39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40" name="Rectangle 4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ff99cc"/>
                  </a:gs>
                  <a:gs pos="100000">
                    <a:srgbClr val="ffcc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1" name="Rectangle 5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pic>
          <p:nvPicPr>
            <p:cNvPr id="142" name="Picture 6" descr="grapes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" name="Group 7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144" name="Rectangle 8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00"/>
                  </a:gs>
                  <a:gs pos="100000">
                    <a:srgbClr val="99ff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45" name="Rectangle 9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99ff99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  <p:sp>
          <p:nvSpPr>
            <p:cNvPr id="146" name="Rectangle 10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ff99cc"/>
                </a:gs>
                <a:gs pos="100000">
                  <a:srgbClr val="ffcc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660066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660066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6006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7A8A3-011C-4B22-AE32-4CE810E94535}" type="slidenum">
              <a:rPr b="0" lang="ru-RU" sz="1400" spc="-1" strike="noStrike">
                <a:solidFill>
                  <a:srgbClr val="660066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grpSp>
        <p:nvGrpSpPr>
          <p:cNvPr id="18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90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191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192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19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9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19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grpSp>
        <p:nvGrpSpPr>
          <p:cNvPr id="19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00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201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sp>
          <p:nvSpPr>
            <p:cNvPr id="202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 u="sng">
                <a:solidFill>
                  <a:srgbClr val="660066"/>
                </a:solidFill>
                <a:uFillTx/>
                <a:latin typeface="Times New Roman"/>
              </a:endParaRPr>
            </a:p>
          </p:txBody>
        </p:sp>
        <p:grpSp>
          <p:nvGrpSpPr>
            <p:cNvPr id="20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0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  <p:sp>
            <p:nvSpPr>
              <p:cNvPr id="20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 u="sng">
                  <a:solidFill>
                    <a:srgbClr val="660066"/>
                  </a:solidFill>
                  <a:uFillTx/>
                  <a:latin typeface="Times New Roman"/>
                </a:endParaRPr>
              </a:p>
            </p:txBody>
          </p:sp>
        </p:grpSp>
      </p:grpSp>
      <p:sp>
        <p:nvSpPr>
          <p:cNvPr id="209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0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D79E7-BD50-42BA-8601-31B5AC7058A3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3" name="Picture 7" descr=""/>
          <p:cNvPicPr/>
          <p:nvPr/>
        </p:nvPicPr>
        <p:blipFill>
          <a:blip r:embed="rId1"/>
          <a:stretch/>
        </p:blipFill>
        <p:spPr>
          <a:xfrm>
            <a:off x="1908000" y="5734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468360" y="692280"/>
            <a:ext cx="77468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Мир украшается занятиями математикой, </a:t>
            </a:r>
            <a:endParaRPr b="0" lang="en-US" sz="4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этому нести это украшение детям радостно,</a:t>
            </a:r>
            <a:endParaRPr b="0" lang="en-US" sz="4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8000"/>
                </a:solidFill>
                <a:latin typeface="Times New Roman"/>
              </a:rPr>
              <a:t>почетно и ответственно.</a:t>
            </a:r>
            <a:endParaRPr b="0" lang="en-US" sz="4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255" name="Picture 10" descr="ever_small"/>
          <p:cNvPicPr/>
          <p:nvPr/>
        </p:nvPicPr>
        <p:blipFill>
          <a:blip r:embed="rId2"/>
          <a:stretch/>
        </p:blipFill>
        <p:spPr>
          <a:xfrm>
            <a:off x="6012000" y="4292640"/>
            <a:ext cx="1584360" cy="136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60523" fill="hold"/>
                                        <p:tgtEl>
                                          <p:spTgt spid="2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Прямоугольник 39"/>
          <p:cNvSpPr/>
          <p:nvPr/>
        </p:nvSpPr>
        <p:spPr>
          <a:xfrm>
            <a:off x="6715080" y="3143160"/>
            <a:ext cx="1928880" cy="228600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3" name="Прямоугольник 36"/>
          <p:cNvSpPr/>
          <p:nvPr/>
        </p:nvSpPr>
        <p:spPr>
          <a:xfrm>
            <a:off x="4357800" y="3143160"/>
            <a:ext cx="2214360" cy="3500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4" name="Прямоугольник 33"/>
          <p:cNvSpPr/>
          <p:nvPr/>
        </p:nvSpPr>
        <p:spPr>
          <a:xfrm>
            <a:off x="2357280" y="3143160"/>
            <a:ext cx="1857600" cy="242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5" name="Прямоугольник 29"/>
          <p:cNvSpPr/>
          <p:nvPr/>
        </p:nvSpPr>
        <p:spPr>
          <a:xfrm>
            <a:off x="142920" y="3143160"/>
            <a:ext cx="2143080" cy="24289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6" name="Прямоугольник с двумя вырезанными противолежащими углами 16"/>
          <p:cNvSpPr/>
          <p:nvPr/>
        </p:nvSpPr>
        <p:spPr>
          <a:xfrm>
            <a:off x="6357960" y="1500120"/>
            <a:ext cx="2071800" cy="150012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7" name="Прямоугольник с двумя вырезанными противолежащими углами 15"/>
          <p:cNvSpPr/>
          <p:nvPr/>
        </p:nvSpPr>
        <p:spPr>
          <a:xfrm>
            <a:off x="4286160" y="1428840"/>
            <a:ext cx="2000520" cy="164304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8" name="Прямоугольник с двумя вырезанными противолежащими углами 14"/>
          <p:cNvSpPr/>
          <p:nvPr/>
        </p:nvSpPr>
        <p:spPr>
          <a:xfrm>
            <a:off x="2357280" y="1357200"/>
            <a:ext cx="1857600" cy="171468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9" name="Прямоугольник с двумя вырезанными противолежащими углами 13"/>
          <p:cNvSpPr/>
          <p:nvPr/>
        </p:nvSpPr>
        <p:spPr>
          <a:xfrm>
            <a:off x="142920" y="1357200"/>
            <a:ext cx="2143080" cy="1714680"/>
          </a:xfrm>
          <a:prstGeom prst="pie">
            <a:avLst/>
          </a:prstGeom>
          <a:solidFill>
            <a:srgbClr val="ffe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0" name="Скругленный прямоугольник 5"/>
          <p:cNvSpPr/>
          <p:nvPr/>
        </p:nvSpPr>
        <p:spPr>
          <a:xfrm>
            <a:off x="1785960" y="142920"/>
            <a:ext cx="5000760" cy="1071360"/>
          </a:xfrm>
          <a:prstGeom prst="roundRect">
            <a:avLst>
              <a:gd name="adj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1" name="Rectangle 191"/>
          <p:cNvSpPr/>
          <p:nvPr/>
        </p:nvSpPr>
        <p:spPr>
          <a:xfrm>
            <a:off x="1979640" y="119700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Bookman Old Style"/>
              </a:rPr>
              <a:t>	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12" name="Picture 262" descr="555"/>
          <p:cNvPicPr/>
          <p:nvPr/>
        </p:nvPicPr>
        <p:blipFill>
          <a:blip r:embed="rId1"/>
          <a:stretch/>
        </p:blipFill>
        <p:spPr>
          <a:xfrm>
            <a:off x="7164360" y="5448240"/>
            <a:ext cx="1533600" cy="14097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63" descr="41"/>
          <p:cNvPicPr/>
          <p:nvPr/>
        </p:nvPicPr>
        <p:blipFill>
          <a:blip r:embed="rId2"/>
          <a:stretch/>
        </p:blipFill>
        <p:spPr>
          <a:xfrm>
            <a:off x="395280" y="260280"/>
            <a:ext cx="561960" cy="561960"/>
          </a:xfrm>
          <a:prstGeom prst="rect">
            <a:avLst/>
          </a:prstGeom>
          <a:ln w="0">
            <a:noFill/>
          </a:ln>
        </p:spPr>
      </p:pic>
      <p:sp>
        <p:nvSpPr>
          <p:cNvPr id="314" name="TextBox 4"/>
          <p:cNvSpPr/>
          <p:nvPr/>
        </p:nvSpPr>
        <p:spPr>
          <a:xfrm>
            <a:off x="1643040" y="214200"/>
            <a:ext cx="52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Факторы, обеспечивающие успешную подготовку к ЕГЭ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5" name="TextBox 6"/>
          <p:cNvSpPr/>
          <p:nvPr/>
        </p:nvSpPr>
        <p:spPr>
          <a:xfrm>
            <a:off x="0" y="1428840"/>
            <a:ext cx="23572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Условия для получения учащимися высокого уровня математической подготовки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6" name="TextBox 7"/>
          <p:cNvSpPr/>
          <p:nvPr/>
        </p:nvSpPr>
        <p:spPr>
          <a:xfrm>
            <a:off x="2286000" y="1428840"/>
            <a:ext cx="200016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Использование всех резервов методической службы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143240" y="1428840"/>
            <a:ext cx="228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Использование современных технологий на уроках и во внеурочной деятельности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18" name="TextBox 11"/>
          <p:cNvSpPr/>
          <p:nvPr/>
        </p:nvSpPr>
        <p:spPr>
          <a:xfrm>
            <a:off x="6286680" y="1500120"/>
            <a:ext cx="207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Times New Roman"/>
              </a:rPr>
              <a:t>Дидактическая и техническая оснащенность учебного процесса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cxnSp>
        <p:nvCxnSpPr>
          <p:cNvPr id="319" name="Прямая со стрелкой 20"/>
          <p:cNvCxnSpPr>
            <a:endCxn id="309" idx="4"/>
          </p:cNvCxnSpPr>
          <p:nvPr/>
        </p:nvCxnSpPr>
        <p:spPr>
          <a:xfrm flipH="1">
            <a:off x="1213920" y="785520"/>
            <a:ext cx="572400" cy="5720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20" name="Прямая со стрелкой 21"/>
          <p:cNvCxnSpPr>
            <a:endCxn id="318" idx="0"/>
          </p:cNvCxnSpPr>
          <p:nvPr/>
        </p:nvCxnSpPr>
        <p:spPr>
          <a:xfrm>
            <a:off x="6786720" y="857160"/>
            <a:ext cx="536760" cy="64332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21" name="Прямая со стрелкой 24"/>
          <p:cNvCxnSpPr/>
          <p:nvPr/>
        </p:nvCxnSpPr>
        <p:spPr>
          <a:xfrm flipH="1">
            <a:off x="3285360" y="1213200"/>
            <a:ext cx="214920" cy="14364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322" name="Прямая со стрелкой 26"/>
          <p:cNvCxnSpPr/>
          <p:nvPr/>
        </p:nvCxnSpPr>
        <p:spPr>
          <a:xfrm>
            <a:off x="4786200" y="1214280"/>
            <a:ext cx="286560" cy="215280"/>
          </a:xfrm>
          <a:prstGeom prst="straightConnector1">
            <a:avLst/>
          </a:prstGeom>
          <a:ln w="2844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323" name="TextBox 27"/>
          <p:cNvSpPr/>
          <p:nvPr/>
        </p:nvSpPr>
        <p:spPr>
          <a:xfrm>
            <a:off x="214200" y="3143160"/>
            <a:ext cx="214308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истема формирования знаний, умений, навыков учащихся на уроках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истема предпрофильной подготовки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истема профильного обучения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Интеграция урочной и внеклассной деятельности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4" name="Стрелка вниз 30"/>
          <p:cNvSpPr/>
          <p:nvPr/>
        </p:nvSpPr>
        <p:spPr>
          <a:xfrm>
            <a:off x="1071720" y="3000240"/>
            <a:ext cx="285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5" name="TextBox 32"/>
          <p:cNvSpPr/>
          <p:nvPr/>
        </p:nvSpPr>
        <p:spPr>
          <a:xfrm>
            <a:off x="2357280" y="3143160"/>
            <a:ext cx="17859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Повышение квалификации учителя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Самообразование учителя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Предметные семинары в МО по обеспечению подготовки учителя и учащихся к ЕГЭ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6" name="Стрелка вниз 34"/>
          <p:cNvSpPr/>
          <p:nvPr/>
        </p:nvSpPr>
        <p:spPr>
          <a:xfrm>
            <a:off x="3214800" y="3000240"/>
            <a:ext cx="28548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7" name="TextBox 35"/>
          <p:cNvSpPr/>
          <p:nvPr/>
        </p:nvSpPr>
        <p:spPr>
          <a:xfrm>
            <a:off x="3929040" y="3214800"/>
            <a:ext cx="278604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личностно ориентированное обучение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ология деятельностного подхода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ехнология развития критического и креативного мышления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блемное обучение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роектная и исследовательская деятельность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формационно-коммуникационные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доровьесберегающие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8" name="Стрелка вниз 37"/>
          <p:cNvSpPr/>
          <p:nvPr/>
        </p:nvSpPr>
        <p:spPr>
          <a:xfrm>
            <a:off x="5286240" y="3000240"/>
            <a:ext cx="2858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29" name="TextBox 38"/>
          <p:cNvSpPr/>
          <p:nvPr/>
        </p:nvSpPr>
        <p:spPr>
          <a:xfrm>
            <a:off x="6715080" y="3214800"/>
            <a:ext cx="19288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Наличие КИМов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Наличие дополнительной литературы для учащихся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Интернет-ресурсы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60066"/>
                </a:solidFill>
                <a:latin typeface="Times New Roman"/>
              </a:rPr>
              <a:t>Наличие копировально-множительной техники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0" name="Стрелка вниз 40"/>
          <p:cNvSpPr/>
          <p:nvPr/>
        </p:nvSpPr>
        <p:spPr>
          <a:xfrm>
            <a:off x="7500960" y="3000240"/>
            <a:ext cx="285840" cy="2145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Блок-схема: документ 10"/>
          <p:cNvSpPr/>
          <p:nvPr/>
        </p:nvSpPr>
        <p:spPr>
          <a:xfrm>
            <a:off x="2857680" y="3857760"/>
            <a:ext cx="3500280" cy="1357200"/>
          </a:xfrm>
          <a:prstGeom prst="flowChartDocument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2" name="Блок-схема: документ 11"/>
          <p:cNvSpPr/>
          <p:nvPr/>
        </p:nvSpPr>
        <p:spPr>
          <a:xfrm>
            <a:off x="5214960" y="2214720"/>
            <a:ext cx="3500280" cy="1357200"/>
          </a:xfrm>
          <a:prstGeom prst="flowChartDocument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3" name="Блок-схема: документ 9"/>
          <p:cNvSpPr/>
          <p:nvPr/>
        </p:nvSpPr>
        <p:spPr>
          <a:xfrm>
            <a:off x="1143000" y="2214720"/>
            <a:ext cx="3500280" cy="1357200"/>
          </a:xfrm>
          <a:prstGeom prst="flowChartDocument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34" name="Picture 6" descr="HOMEWORK"/>
          <p:cNvPicPr/>
          <p:nvPr/>
        </p:nvPicPr>
        <p:blipFill>
          <a:blip r:embed="rId1"/>
          <a:stretch/>
        </p:blipFill>
        <p:spPr>
          <a:xfrm>
            <a:off x="684360" y="4653000"/>
            <a:ext cx="2484360" cy="18637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3"/>
          <p:cNvSpPr/>
          <p:nvPr/>
        </p:nvSpPr>
        <p:spPr>
          <a:xfrm>
            <a:off x="2643120" y="500040"/>
            <a:ext cx="450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сихолого-педагогическая подготовка к ЕГЭ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6" name="TextBox 5"/>
          <p:cNvSpPr/>
          <p:nvPr/>
        </p:nvSpPr>
        <p:spPr>
          <a:xfrm>
            <a:off x="1357200" y="2428920"/>
            <a:ext cx="307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Психологическая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7" name="TextBox 6"/>
          <p:cNvSpPr/>
          <p:nvPr/>
        </p:nvSpPr>
        <p:spPr>
          <a:xfrm>
            <a:off x="5643720" y="2500200"/>
            <a:ext cx="257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Техническая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8" name="TextBox 7"/>
          <p:cNvSpPr/>
          <p:nvPr/>
        </p:nvSpPr>
        <p:spPr>
          <a:xfrm>
            <a:off x="2928960" y="4071960"/>
            <a:ext cx="35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66"/>
                </a:solidFill>
                <a:latin typeface="Times New Roman"/>
              </a:rPr>
              <a:t>Методическая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39" name="Рамка 8"/>
          <p:cNvSpPr/>
          <p:nvPr/>
        </p:nvSpPr>
        <p:spPr>
          <a:xfrm>
            <a:off x="2071800" y="285840"/>
            <a:ext cx="5429160" cy="1500120"/>
          </a:xfrm>
          <a:prstGeom prst="pie">
            <a:avLst/>
          </a:prstGeom>
          <a:solidFill>
            <a:srgbClr val="ff99cc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40" name="Стрелка вниз 12"/>
          <p:cNvSpPr/>
          <p:nvPr/>
        </p:nvSpPr>
        <p:spPr>
          <a:xfrm>
            <a:off x="2286000" y="178596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99cc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41" name="Стрелка вниз 13"/>
          <p:cNvSpPr/>
          <p:nvPr/>
        </p:nvSpPr>
        <p:spPr>
          <a:xfrm>
            <a:off x="6643800" y="1785960"/>
            <a:ext cx="214200" cy="428760"/>
          </a:xfrm>
          <a:prstGeom prst="downArrow">
            <a:avLst>
              <a:gd name="adj1" fmla="val 50000"/>
              <a:gd name="adj2" fmla="val 50042"/>
            </a:avLst>
          </a:prstGeom>
          <a:solidFill>
            <a:srgbClr val="ff99cc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42" name="Стрелка вниз 14"/>
          <p:cNvSpPr/>
          <p:nvPr/>
        </p:nvSpPr>
        <p:spPr>
          <a:xfrm>
            <a:off x="4857840" y="1785960"/>
            <a:ext cx="214200" cy="185724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f99cc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TextBox 2"/>
          <p:cNvSpPr/>
          <p:nvPr/>
        </p:nvSpPr>
        <p:spPr>
          <a:xfrm>
            <a:off x="1428840" y="857160"/>
            <a:ext cx="5929200" cy="42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Times New Roman"/>
              </a:rPr>
              <a:t>Психологом необходимо  проводить психологические тренинги по отработке навыков: 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самоконтроля, саморегуляции, повышения уверенности в себе, в своих силах;</a:t>
            </a: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создания ситуации успеха;</a:t>
            </a: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мотивирования учащихся на дату ЕГЭ;</a:t>
            </a: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формирование адекватной самооценки через развитие рефлексивных способностей;</a:t>
            </a: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ff"/>
                </a:solidFill>
                <a:latin typeface="Times New Roman"/>
              </a:rPr>
              <a:t>знакомство учащихся с механизмами снятия экзаменационного стресса.</a:t>
            </a: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44" name="Picture 6" descr="HOMEWORK"/>
          <p:cNvPicPr/>
          <p:nvPr/>
        </p:nvPicPr>
        <p:blipFill>
          <a:blip r:embed="rId1"/>
          <a:stretch/>
        </p:blipFill>
        <p:spPr>
          <a:xfrm>
            <a:off x="684360" y="4653000"/>
            <a:ext cx="2484360" cy="186372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WHICHB"/>
          <p:cNvPicPr/>
          <p:nvPr/>
        </p:nvPicPr>
        <p:blipFill>
          <a:blip r:embed="rId2"/>
          <a:stretch/>
        </p:blipFill>
        <p:spPr>
          <a:xfrm>
            <a:off x="7272360" y="285840"/>
            <a:ext cx="1871640" cy="11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91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295280" y="214200"/>
            <a:ext cx="7772400" cy="588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66"/>
                </a:solidFill>
                <a:latin typeface="Book Antiqua"/>
              </a:rPr>
              <a:t>     </a:t>
            </a:r>
            <a:r>
              <a:rPr b="1" i="1" lang="ru-RU" sz="2800" spc="-1" strike="noStrike">
                <a:solidFill>
                  <a:srgbClr val="660066"/>
                </a:solidFill>
                <a:latin typeface="Book Antiqua"/>
              </a:rPr>
              <a:t>В связи  с этим уже в основной школе необходимо начинать подготовку по таким разделам: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действительные числа и действия с ними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степенные выражения и их преобразования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свойства арифметического корня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функции и их свойства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уравнения, неравенства и их системы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решение текстовых задач на проценты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арифметическая и геометрическая прогрессии,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решение комплексных задач по планиметрии.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Прямоугольник 2"/>
          <p:cNvSpPr/>
          <p:nvPr/>
        </p:nvSpPr>
        <p:spPr>
          <a:xfrm>
            <a:off x="1214280" y="214200"/>
            <a:ext cx="73584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Times New Roman"/>
              </a:rPr>
              <a:t>В старших классах отрабатывается техника сдачи тестов, которая включает следующие моменты: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бучение постоянному жесткому самоконтролю времени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бучение оценке объективной и субъективной трудности заданий и, следовательно, правильному выбору этих заданий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бучение прикидке границ результатов и минимальной подстановке как приему проверки, проводимой сразу после решения задачи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b05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обучение приему «спирального движения» по тесту, когда ученик решает знакомые задания из всего теста, затем возвращается к началу теста, пытаясь решить пропущенные задания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295280" y="213840"/>
            <a:ext cx="7772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660066"/>
                </a:solidFill>
                <a:latin typeface="Baskerville Old Face"/>
              </a:rPr>
              <a:t>    </a:t>
            </a:r>
            <a:r>
              <a:rPr b="1" i="1" lang="ru-RU" sz="2400" spc="-1" strike="noStrike">
                <a:solidFill>
                  <a:srgbClr val="660066"/>
                </a:solidFill>
                <a:latin typeface="Book Antiqua"/>
              </a:rPr>
              <a:t>Если тест предназначен для контроля знаний и умений учащихся, то работа проводится по следующему плану: 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ook Antiqua"/>
              </a:rPr>
              <a:t>выполнение теста,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ook Antiqua"/>
              </a:rPr>
              <a:t>проверка работы учителем,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660066"/>
                </a:solidFill>
                <a:latin typeface="Book Antiqua"/>
              </a:rPr>
              <a:t>работа над ошибками, 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00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Book Antiqua"/>
              </a:rPr>
              <a:t>анализ невыполненных заданий, повторное выполнение теста другого варианта.</a:t>
            </a: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349" name="Picture 48" descr="CLOCK4"/>
          <p:cNvPicPr/>
          <p:nvPr/>
        </p:nvPicPr>
        <p:blipFill>
          <a:blip r:embed="rId1"/>
          <a:stretch/>
        </p:blipFill>
        <p:spPr>
          <a:xfrm>
            <a:off x="6929280" y="4572000"/>
            <a:ext cx="11527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6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6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1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6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48" descr="CLOCK4"/>
          <p:cNvPicPr/>
          <p:nvPr/>
        </p:nvPicPr>
        <p:blipFill>
          <a:blip r:embed="rId1"/>
          <a:stretch/>
        </p:blipFill>
        <p:spPr>
          <a:xfrm>
            <a:off x="7524720" y="1197000"/>
            <a:ext cx="1152720" cy="1152360"/>
          </a:xfrm>
          <a:prstGeom prst="rect">
            <a:avLst/>
          </a:prstGeom>
          <a:ln w="0">
            <a:noFill/>
          </a:ln>
        </p:spPr>
      </p:pic>
      <p:pic>
        <p:nvPicPr>
          <p:cNvPr id="351" name="Токката.mp3" descr=""/>
          <p:cNvPicPr/>
          <p:nvPr/>
        </p:nvPicPr>
        <p:blipFill>
          <a:blip r:embed="rId2"/>
          <a:stretch/>
        </p:blipFill>
        <p:spPr>
          <a:xfrm>
            <a:off x="324000" y="551664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352" name="Rectangle 67"/>
          <p:cNvSpPr/>
          <p:nvPr/>
        </p:nvSpPr>
        <p:spPr>
          <a:xfrm>
            <a:off x="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3" name="Rectangle 69"/>
          <p:cNvSpPr/>
          <p:nvPr/>
        </p:nvSpPr>
        <p:spPr>
          <a:xfrm>
            <a:off x="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4" name="Rectangle 71"/>
          <p:cNvSpPr/>
          <p:nvPr/>
        </p:nvSpPr>
        <p:spPr>
          <a:xfrm rot="18900000">
            <a:off x="250920" y="321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55" name="TextBox 6"/>
          <p:cNvSpPr/>
          <p:nvPr/>
        </p:nvSpPr>
        <p:spPr>
          <a:xfrm>
            <a:off x="357120" y="214200"/>
            <a:ext cx="78580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cc"/>
                </a:solidFill>
                <a:uFillTx/>
                <a:latin typeface="Times New Roman"/>
              </a:rPr>
              <a:t>Учителя математики выстраивают такую подготовку по следующим правилам: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создание на основе мониторинга ЗУН учащихся программ индивидуального сопровождения по предмету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от простых плановых заданий до заданий со звездочками, от комплексных типовых заданий до заданий раздела С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проведение тематического тестирования, выстроенного по форме ЕГЭ: комплексные тесты используются только в конце подготовки (апрель — май)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66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ff"/>
                </a:solidFill>
                <a:latin typeface="Times New Roman"/>
              </a:rPr>
              <a:t>все тренировочные тесты проводятся с жестким ограничением времени и максимальной нагрузкой по содержанию для всех учащихся в равной мере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2" dur="1" fill="hold"/>
                                        <p:tgtEl>
                                          <p:spTgt spid="3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2" dur="5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8" dur="500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Box 1"/>
          <p:cNvSpPr/>
          <p:nvPr/>
        </p:nvSpPr>
        <p:spPr>
          <a:xfrm>
            <a:off x="214200" y="214200"/>
            <a:ext cx="8215560" cy="57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cc"/>
                </a:solidFill>
                <a:uFillTx/>
                <a:latin typeface="Times New Roman"/>
              </a:rPr>
              <a:t>Построение итогового повторения курса математики, подготовка к единому государственному экзамену.</a:t>
            </a:r>
            <a:endParaRPr b="0" lang="en-US" sz="28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. Итоговое повторение учебного материала необходимо проводить, используя блочно- модульное структурирование учебного материала, укрупнение учебных единиц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2. На первом уроке повторения темы необходимо провести контрольный срез в тестовой форме по выявлению пробелов в знаниях учащихся для дальнейшей их ликвидации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На этапе подготовки тематический тест должен быть выстроен в виде логически взаимосвязанной системы, где из одного вытекает другое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5" dur="500"/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3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3" dur="20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3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Прямоугольник 3"/>
          <p:cNvSpPr/>
          <p:nvPr/>
        </p:nvSpPr>
        <p:spPr>
          <a:xfrm>
            <a:off x="785880" y="304920"/>
            <a:ext cx="7072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3. Выстраивать повторение, соблюдая «правило спирали» - от простых заданий до заданий со звездочками, от комплексных типовых заданий до заданий раздела С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4. Тренировочные тесты необходимо проводить с жестким ограничением во времени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Темп проведения теста учитель должен задавать сразу и держать его на протяжении всего времени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5. Необходимо учить школьников использовать наличный запас, применяя различные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«хитрости» и «правдоподобные рассуждения» для получения ответа наиболее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остым и быстрым способом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6" dur="20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2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5" dur="20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1"/>
          <p:cNvSpPr/>
          <p:nvPr/>
        </p:nvSpPr>
        <p:spPr>
          <a:xfrm>
            <a:off x="214200" y="285840"/>
            <a:ext cx="81439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6. Чтобы решать простейшие уравнения и уравнения повышенной сложности – использовать на уроках раздаточный материал с проверкой основных приемов и специальных методов решения простейших уравнений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7. На каждом уроке математики систематически повторять изученное ранее параллельно с изучением нового материала. Подготовка к ЕГЭ не должна подменять систематическое изучение математики. Любая традиционная подготовка к экзаменам,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в том числе к ЕГЭ должна быть обеспечена планомерным повторением, обобщением и систематизацией знаний из различных разделов курса математики, варьированием стандартных условий задачи, рассмотрением новых типов заданий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8. Домашние задания должны быть подобраны  для учащихся различного уровня сложности.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4" dur="2000"/>
                                        <p:tgtEl>
                                          <p:spTgt spid="3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496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c0"/>
                </a:solidFill>
                <a:latin typeface="Impact"/>
              </a:rPr>
              <a:t>Система работы учителей математики по подготовке к итоговой аттестации и к ЕГЭ</a:t>
            </a:r>
            <a:br>
              <a:rPr sz="4400"/>
            </a:br>
            <a:endParaRPr b="0" lang="en-US" sz="4400" spc="-1" strike="noStrike">
              <a:solidFill>
                <a:srgbClr val="ff00ff"/>
              </a:solidFill>
              <a:latin typeface="Impact"/>
            </a:endParaRPr>
          </a:p>
        </p:txBody>
      </p:sp>
      <p:pic>
        <p:nvPicPr>
          <p:cNvPr id="257" name="Picture 6" descr="HOMEWORK"/>
          <p:cNvPicPr/>
          <p:nvPr/>
        </p:nvPicPr>
        <p:blipFill>
          <a:blip r:embed="rId1"/>
          <a:stretch/>
        </p:blipFill>
        <p:spPr>
          <a:xfrm>
            <a:off x="2071800" y="4643280"/>
            <a:ext cx="248436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4"/>
          <p:cNvSpPr/>
          <p:nvPr/>
        </p:nvSpPr>
        <p:spPr>
          <a:xfrm>
            <a:off x="2627280" y="260280"/>
            <a:ext cx="3888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61" name="Picture 6" descr="003"/>
          <p:cNvPicPr/>
          <p:nvPr/>
        </p:nvPicPr>
        <p:blipFill>
          <a:blip r:embed="rId2"/>
          <a:stretch/>
        </p:blipFill>
        <p:spPr>
          <a:xfrm>
            <a:off x="324000" y="1989000"/>
            <a:ext cx="561960" cy="55260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003"/>
          <p:cNvPicPr/>
          <p:nvPr/>
        </p:nvPicPr>
        <p:blipFill>
          <a:blip r:embed="rId3"/>
          <a:stretch/>
        </p:blipFill>
        <p:spPr>
          <a:xfrm>
            <a:off x="324000" y="2997360"/>
            <a:ext cx="561960" cy="5522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8" descr="003"/>
          <p:cNvPicPr/>
          <p:nvPr/>
        </p:nvPicPr>
        <p:blipFill>
          <a:blip r:embed="rId4"/>
          <a:stretch/>
        </p:blipFill>
        <p:spPr>
          <a:xfrm>
            <a:off x="250920" y="4149720"/>
            <a:ext cx="561960" cy="552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KIDS01"/>
          <p:cNvPicPr/>
          <p:nvPr/>
        </p:nvPicPr>
        <p:blipFill>
          <a:blip r:embed="rId5"/>
          <a:stretch/>
        </p:blipFill>
        <p:spPr>
          <a:xfrm>
            <a:off x="5940360" y="4941720"/>
            <a:ext cx="2228760" cy="154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2000"/>
                            </p:stCondLst>
                            <p:childTnLst>
                              <p:par>
                                <p:cTn id="5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3000"/>
                            </p:stCondLst>
                            <p:childTnLst>
                              <p:par>
                                <p:cTn id="52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52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0" dur="70000" fill="hold"/>
                                        <p:tgtEl>
                                          <p:spTgt spid="3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WordArt 2" descr=""/>
          <p:cNvPicPr/>
          <p:nvPr/>
        </p:nvPicPr>
        <p:blipFill>
          <a:blip r:embed="rId1"/>
          <a:stretch/>
        </p:blipFill>
        <p:spPr>
          <a:xfrm>
            <a:off x="-328680" y="1262160"/>
            <a:ext cx="8667720" cy="4456080"/>
          </a:xfrm>
          <a:prstGeom prst="rect">
            <a:avLst/>
          </a:prstGeom>
          <a:ln w="0">
            <a:noFill/>
          </a:ln>
        </p:spPr>
      </p:pic>
      <p:sp>
        <p:nvSpPr>
          <p:cNvPr id="366" name="AutoShape 3"/>
          <p:cNvSpPr/>
          <p:nvPr/>
        </p:nvSpPr>
        <p:spPr>
          <a:xfrm>
            <a:off x="1447920" y="51814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7543800" y="38098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7380360" y="90792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6084720" y="54936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3276720" y="234936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5638680" y="579132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7772400" y="5791320"/>
            <a:ext cx="609480" cy="60948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116000" y="24922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539640" y="549360"/>
            <a:ext cx="609840" cy="609480"/>
          </a:xfrm>
          <a:custGeom>
            <a:avLst/>
            <a:gdLst>
              <a:gd name="textAreaLeft" fmla="*/ 251280 w 609840"/>
              <a:gd name="textAreaRight" fmla="*/ 358560 w 609840"/>
              <a:gd name="textAreaTop" fmla="*/ 250920 h 609480"/>
              <a:gd name="textAreaBottom" fmla="*/ 358560 h 609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429000" y="449568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pic>
        <p:nvPicPr>
          <p:cNvPr id="376" name="Picture 15" descr="88b"/>
          <p:cNvPicPr/>
          <p:nvPr/>
        </p:nvPicPr>
        <p:blipFill>
          <a:blip r:embed="rId2"/>
          <a:stretch/>
        </p:blipFill>
        <p:spPr>
          <a:xfrm>
            <a:off x="6681960" y="3789360"/>
            <a:ext cx="2268360" cy="2916360"/>
          </a:xfrm>
          <a:prstGeom prst="rect">
            <a:avLst/>
          </a:prstGeom>
          <a:ln w="0">
            <a:noFill/>
          </a:ln>
        </p:spPr>
      </p:pic>
      <p:sp>
        <p:nvSpPr>
          <p:cNvPr id="377" name="AutoShape 16"/>
          <p:cNvSpPr/>
          <p:nvPr/>
        </p:nvSpPr>
        <p:spPr>
          <a:xfrm>
            <a:off x="2857680" y="714240"/>
            <a:ext cx="609480" cy="609840"/>
          </a:xfrm>
          <a:custGeom>
            <a:avLst/>
            <a:gdLst>
              <a:gd name="textAreaLeft" fmla="*/ 250920 w 609480"/>
              <a:gd name="textAreaRight" fmla="*/ 358560 w 609480"/>
              <a:gd name="textAreaTop" fmla="*/ 251280 h 609840"/>
              <a:gd name="textAreaBottom" fmla="*/ 358560 h 6098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4" dur="2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8" dur="2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2" dur="2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428400" y="785880"/>
            <a:ext cx="871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         </a:t>
            </a: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	</a:t>
            </a:r>
            <a:r>
              <a:rPr b="1" lang="ru-RU" sz="4000" spc="-1" strike="noStrike">
                <a:solidFill>
                  <a:srgbClr val="c00000"/>
                </a:solidFill>
                <a:latin typeface="Impact"/>
              </a:rPr>
              <a:t>Основная  цель МО </a:t>
            </a:r>
            <a:r>
              <a:rPr b="1" lang="ru-RU" sz="4000" spc="-1" strike="noStrike">
                <a:solidFill>
                  <a:srgbClr val="660066"/>
                </a:solidFill>
                <a:latin typeface="Impact"/>
              </a:rPr>
              <a:t>- подготовка  выпускников средней школы к сдаче ЕГЭ, повышение  уровня математической подготовки для  продолжения образования в ВУЗах.</a:t>
            </a: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  <a:p>
            <a:pPr marL="57276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Impact"/>
            </a:endParaRPr>
          </a:p>
        </p:txBody>
      </p:sp>
      <p:pic>
        <p:nvPicPr>
          <p:cNvPr id="259" name="Picture 4" descr="WHICHB"/>
          <p:cNvPicPr/>
          <p:nvPr/>
        </p:nvPicPr>
        <p:blipFill>
          <a:blip r:embed="rId1"/>
          <a:stretch/>
        </p:blipFill>
        <p:spPr>
          <a:xfrm>
            <a:off x="3000240" y="4500720"/>
            <a:ext cx="2729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03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2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2642760" y="285480"/>
            <a:ext cx="4643640" cy="114300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txBody>
          <a:bodyPr anchor="t">
            <a:normAutofit fontScale="84000"/>
          </a:bodyPr>
          <a:p>
            <a:pPr marL="2880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66"/>
                </a:solidFill>
                <a:latin typeface="Impact"/>
              </a:rPr>
              <a:t>Подготовка к итоговой аттестации,  к ЕГЭ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61" name="Прямоугольник с двумя вырезанными соседними углами 2"/>
          <p:cNvSpPr/>
          <p:nvPr/>
        </p:nvSpPr>
        <p:spPr>
          <a:xfrm>
            <a:off x="1071720" y="1857240"/>
            <a:ext cx="3571560" cy="22147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2" name="Прямоугольник с двумя вырезанными соседними углами 3"/>
          <p:cNvSpPr/>
          <p:nvPr/>
        </p:nvSpPr>
        <p:spPr>
          <a:xfrm>
            <a:off x="5429160" y="1928880"/>
            <a:ext cx="3429000" cy="221436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3" name="Прямоугольник с двумя вырезанными соседними углами 4"/>
          <p:cNvSpPr/>
          <p:nvPr/>
        </p:nvSpPr>
        <p:spPr>
          <a:xfrm>
            <a:off x="3357720" y="4429080"/>
            <a:ext cx="3429000" cy="22147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4" name="Стрелка вверх 5"/>
          <p:cNvSpPr/>
          <p:nvPr/>
        </p:nvSpPr>
        <p:spPr>
          <a:xfrm rot="12873600">
            <a:off x="3214440" y="1499760"/>
            <a:ext cx="357120" cy="285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5" name="Стрелка вверх 6"/>
          <p:cNvSpPr/>
          <p:nvPr/>
        </p:nvSpPr>
        <p:spPr>
          <a:xfrm rot="8607000">
            <a:off x="6264360" y="1577880"/>
            <a:ext cx="357120" cy="2858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6" name="Стрелка вверх 7"/>
          <p:cNvSpPr/>
          <p:nvPr/>
        </p:nvSpPr>
        <p:spPr>
          <a:xfrm rot="10800000">
            <a:off x="4925520" y="1501920"/>
            <a:ext cx="357480" cy="2557440"/>
          </a:xfrm>
          <a:prstGeom prst="upArrow">
            <a:avLst>
              <a:gd name="adj1" fmla="val 50000"/>
              <a:gd name="adj2" fmla="val 49946"/>
            </a:avLst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7" name="TextBox 8"/>
          <p:cNvSpPr/>
          <p:nvPr/>
        </p:nvSpPr>
        <p:spPr>
          <a:xfrm>
            <a:off x="1000080" y="2214720"/>
            <a:ext cx="3714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0066"/>
                </a:solidFill>
                <a:uFillTx/>
                <a:latin typeface="Times New Roman"/>
              </a:rPr>
              <a:t>информационная готовность</a:t>
            </a:r>
            <a:endParaRPr b="0" lang="en-US" sz="3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8" name="TextBox 9"/>
          <p:cNvSpPr/>
          <p:nvPr/>
        </p:nvSpPr>
        <p:spPr>
          <a:xfrm>
            <a:off x="5429160" y="22860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660066"/>
                </a:solidFill>
                <a:uFillTx/>
                <a:latin typeface="Times New Roman"/>
              </a:rPr>
              <a:t>предметная готовность</a:t>
            </a:r>
            <a:endParaRPr b="0" lang="en-US" sz="3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69" name="TextBox 10"/>
          <p:cNvSpPr/>
          <p:nvPr/>
        </p:nvSpPr>
        <p:spPr>
          <a:xfrm>
            <a:off x="3357720" y="4786200"/>
            <a:ext cx="3357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660066"/>
                </a:solidFill>
                <a:uFillTx/>
                <a:latin typeface="Times New Roman"/>
              </a:rPr>
              <a:t>психолого-педагогическая готовность</a:t>
            </a:r>
            <a:endParaRPr b="0" lang="en-US" sz="32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70" name="Прямая со стрелкой 5"/>
          <p:cNvCxnSpPr/>
          <p:nvPr/>
        </p:nvCxnSpPr>
        <p:spPr>
          <a:xfrm flipH="1">
            <a:off x="4928400" y="1071360"/>
            <a:ext cx="2520" cy="92916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271" name="Прямоугольник с двумя вырезанными противолежащими углами 27"/>
          <p:cNvSpPr/>
          <p:nvPr/>
        </p:nvSpPr>
        <p:spPr>
          <a:xfrm>
            <a:off x="3143160" y="3143160"/>
            <a:ext cx="3214800" cy="350064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2" name="Капля 23"/>
          <p:cNvSpPr/>
          <p:nvPr/>
        </p:nvSpPr>
        <p:spPr>
          <a:xfrm>
            <a:off x="0" y="3000240"/>
            <a:ext cx="3071880" cy="22147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1428480" y="213840"/>
            <a:ext cx="7358040" cy="949320"/>
          </a:xfrm>
          <a:prstGeom prst="rect">
            <a:avLst/>
          </a:prstGeom>
          <a:solidFill>
            <a:srgbClr val="e3bef5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Impact"/>
              </a:rPr>
              <a:t>Содержание информационной деятельности по вопросам подготовки к ЕГЭ</a:t>
            </a: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0066"/>
              </a:solidFill>
              <a:latin typeface="Impact"/>
            </a:endParaRPr>
          </a:p>
        </p:txBody>
      </p:sp>
      <p:cxnSp>
        <p:nvCxnSpPr>
          <p:cNvPr id="274" name="Прямая со стрелкой 4"/>
          <p:cNvCxnSpPr/>
          <p:nvPr/>
        </p:nvCxnSpPr>
        <p:spPr>
          <a:xfrm flipH="1">
            <a:off x="2857320" y="1214280"/>
            <a:ext cx="714960" cy="57240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cxnSp>
        <p:nvCxnSpPr>
          <p:cNvPr id="275" name="Прямая со стрелкой 6"/>
          <p:cNvCxnSpPr/>
          <p:nvPr/>
        </p:nvCxnSpPr>
        <p:spPr>
          <a:xfrm>
            <a:off x="6286320" y="1143000"/>
            <a:ext cx="643320" cy="572400"/>
          </a:xfrm>
          <a:prstGeom prst="straightConnector1">
            <a:avLst/>
          </a:prstGeom>
          <a:ln w="28440">
            <a:solidFill>
              <a:srgbClr val="660066"/>
            </a:solidFill>
            <a:miter/>
            <a:tailEnd len="med" type="arrow" w="med"/>
          </a:ln>
        </p:spPr>
      </p:cxnSp>
      <p:sp>
        <p:nvSpPr>
          <p:cNvPr id="276" name="Овал 14"/>
          <p:cNvSpPr/>
          <p:nvPr/>
        </p:nvSpPr>
        <p:spPr>
          <a:xfrm>
            <a:off x="1214280" y="1785960"/>
            <a:ext cx="2643480" cy="107172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7" name="Овал 15"/>
          <p:cNvSpPr/>
          <p:nvPr/>
        </p:nvSpPr>
        <p:spPr>
          <a:xfrm>
            <a:off x="6143760" y="1714680"/>
            <a:ext cx="2643120" cy="1071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8" name="Овал 16"/>
          <p:cNvSpPr/>
          <p:nvPr/>
        </p:nvSpPr>
        <p:spPr>
          <a:xfrm>
            <a:off x="3714840" y="1928880"/>
            <a:ext cx="2643120" cy="1071360"/>
          </a:xfrm>
          <a:prstGeom prst="ellipse">
            <a:avLst/>
          </a:prstGeom>
          <a:solidFill>
            <a:srgbClr val="99ff99"/>
          </a:solidFill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79" name="TextBox 18"/>
          <p:cNvSpPr/>
          <p:nvPr/>
        </p:nvSpPr>
        <p:spPr>
          <a:xfrm>
            <a:off x="1714680" y="1928880"/>
            <a:ext cx="178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Работа с педагогами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0" name="TextBox 20"/>
          <p:cNvSpPr/>
          <p:nvPr/>
        </p:nvSpPr>
        <p:spPr>
          <a:xfrm>
            <a:off x="4143240" y="207180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Работа с учащимися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1" name="TextBox 21"/>
          <p:cNvSpPr/>
          <p:nvPr/>
        </p:nvSpPr>
        <p:spPr>
          <a:xfrm>
            <a:off x="6572160" y="192888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Times New Roman"/>
              </a:rPr>
              <a:t>Работа с родителями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2" name="TextBox 22"/>
          <p:cNvSpPr/>
          <p:nvPr/>
        </p:nvSpPr>
        <p:spPr>
          <a:xfrm>
            <a:off x="285840" y="3143160"/>
            <a:ext cx="2857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1) </a:t>
            </a:r>
            <a:r>
              <a:rPr b="0" lang="ru-RU" sz="1600" spc="-1" strike="noStrike" u="sng">
                <a:solidFill>
                  <a:srgbClr val="ff99cc"/>
                </a:solidFill>
                <a:uFillTx/>
                <a:latin typeface="Times New Roman"/>
                <a:hlinkClick r:id="rId1" action="ppaction://hlinksldjump"/>
              </a:rPr>
              <a:t>Информирование учителей на заседаниях МО;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2) </a:t>
            </a:r>
            <a:r>
              <a:rPr b="0" lang="ru-RU" sz="1600" spc="-1" strike="noStrike" u="sng">
                <a:solidFill>
                  <a:srgbClr val="ff99cc"/>
                </a:solidFill>
                <a:uFillTx/>
                <a:latin typeface="Times New Roman"/>
                <a:hlinkClick r:id="rId2" action="ppaction://hlinksldjump"/>
              </a:rPr>
              <a:t>Включение в план работы школьного  методического  объединения   следующих вопросов.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3" name="Капля 24"/>
          <p:cNvSpPr/>
          <p:nvPr/>
        </p:nvSpPr>
        <p:spPr>
          <a:xfrm>
            <a:off x="6215040" y="2857680"/>
            <a:ext cx="2928960" cy="2643120"/>
          </a:xfrm>
          <a:prstGeom prst="pie">
            <a:avLst/>
          </a:prstGeom>
          <a:solidFill>
            <a:srgbClr val="99ff99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4" name="TextBox 25"/>
          <p:cNvSpPr/>
          <p:nvPr/>
        </p:nvSpPr>
        <p:spPr>
          <a:xfrm>
            <a:off x="6500880" y="3214800"/>
            <a:ext cx="264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1) </a:t>
            </a:r>
            <a:r>
              <a:rPr b="0" lang="ru-RU" sz="1600" spc="-1" strike="noStrike" u="sng">
                <a:solidFill>
                  <a:srgbClr val="ff99cc"/>
                </a:solidFill>
                <a:uFillTx/>
                <a:latin typeface="Times New Roman"/>
                <a:hlinkClick r:id="rId3" action="ppaction://hlinksldjump"/>
              </a:rPr>
              <a:t>Родительские собрания;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2) Индивидуальное консультирование родителей (классные руководители, педагог-психолог, учитель-предметник).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5" name="TextBox 26"/>
          <p:cNvSpPr/>
          <p:nvPr/>
        </p:nvSpPr>
        <p:spPr>
          <a:xfrm>
            <a:off x="3214800" y="3411360"/>
            <a:ext cx="307188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ff99cc"/>
                </a:solidFill>
                <a:uFillTx/>
                <a:latin typeface="Times New Roman"/>
                <a:hlinkClick r:id="rId4" action="ppaction://hlinksldjump"/>
              </a:rPr>
              <a:t>Организация информационной работы  в форме инструктажа учащихся</a:t>
            </a: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Информационный стенд для учащихся: нормативные документы, бланки, правила заполнения бланков, ресурсы Интернет по вопросам ЕГЭ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оведение занятий по тренировке заполнения бланков;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marL="343080" indent="-343080">
              <a:buClr>
                <a:srgbClr val="66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66"/>
                </a:solidFill>
                <a:latin typeface="Times New Roman"/>
              </a:rPr>
              <a:t>Пробные внутришкольные ЕГЭ.</a:t>
            </a:r>
            <a:endParaRPr b="0" lang="en-US" sz="1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66"/>
                </a:solidFill>
                <a:latin typeface="Times New Roman"/>
              </a:rPr>
              <a:t> </a:t>
            </a: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6" name="Стрелка вниз 17"/>
          <p:cNvSpPr/>
          <p:nvPr/>
        </p:nvSpPr>
        <p:spPr>
          <a:xfrm>
            <a:off x="2143080" y="2786040"/>
            <a:ext cx="35712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3bef5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7" name="Стрелка вниз 19"/>
          <p:cNvSpPr/>
          <p:nvPr/>
        </p:nvSpPr>
        <p:spPr>
          <a:xfrm>
            <a:off x="4786200" y="2928960"/>
            <a:ext cx="357480" cy="285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3bef5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88" name="Стрелка вниз 28"/>
          <p:cNvSpPr/>
          <p:nvPr/>
        </p:nvSpPr>
        <p:spPr>
          <a:xfrm>
            <a:off x="7429680" y="2714760"/>
            <a:ext cx="357120" cy="28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e3bef5"/>
          </a:solidFill>
          <a:ln w="9360">
            <a:solidFill>
              <a:srgbClr val="66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28760" y="21420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0066"/>
              </a:solidFill>
              <a:latin typeface="Impact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  <a:p>
            <a:pPr marL="17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0066"/>
                </a:solidFill>
                <a:latin typeface="Impact"/>
              </a:rPr>
              <a:t>      </a:t>
            </a:r>
            <a:endParaRPr b="0" lang="en-US" sz="3200" spc="-1" strike="noStrike">
              <a:solidFill>
                <a:srgbClr val="660066"/>
              </a:solidFill>
              <a:latin typeface="Impact"/>
            </a:endParaRPr>
          </a:p>
        </p:txBody>
      </p:sp>
      <p:sp>
        <p:nvSpPr>
          <p:cNvPr id="290" name="Rectangle 1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1" name="Rectangle 1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2" name="Rectangle 1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3" name="AutoShape 7">
            <a:hlinkClick r:id="" action="ppaction://hlinkshowjump?jump=previousslide"/>
          </p:cNvPr>
          <p:cNvSpPr/>
          <p:nvPr/>
        </p:nvSpPr>
        <p:spPr>
          <a:xfrm>
            <a:off x="468360" y="6093000"/>
            <a:ext cx="431640" cy="360360"/>
          </a:xfrm>
          <a:custGeom>
            <a:avLst/>
            <a:gdLst>
              <a:gd name="textAreaLeft" fmla="*/ 23040 w 431640"/>
              <a:gd name="textAreaRight" fmla="*/ 408600 w 43164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5868" h="21600">
                <a:moveTo>
                  <a:pt x="0" y="0"/>
                </a:moveTo>
                <a:lnTo>
                  <a:pt x="25868" y="0"/>
                </a:lnTo>
                <a:lnTo>
                  <a:pt x="25868" y="21600"/>
                </a:lnTo>
                <a:lnTo>
                  <a:pt x="0" y="21600"/>
                </a:lnTo>
                <a:close/>
              </a:path>
              <a:path fill="lightenLess" w="25868" h="21600">
                <a:moveTo>
                  <a:pt x="0" y="0"/>
                </a:moveTo>
                <a:lnTo>
                  <a:pt x="25868" y="0"/>
                </a:lnTo>
                <a:lnTo>
                  <a:pt x="24468" y="1400"/>
                </a:lnTo>
                <a:lnTo>
                  <a:pt x="1400" y="1400"/>
                </a:lnTo>
                <a:close/>
              </a:path>
              <a:path fill="darken" w="25868" h="21600">
                <a:moveTo>
                  <a:pt x="25868" y="0"/>
                </a:moveTo>
                <a:lnTo>
                  <a:pt x="25868" y="21600"/>
                </a:lnTo>
                <a:lnTo>
                  <a:pt x="24468" y="20200"/>
                </a:lnTo>
                <a:lnTo>
                  <a:pt x="24468" y="1400"/>
                </a:lnTo>
                <a:close/>
              </a:path>
              <a:path fill="darkenLess" w="25868" h="21600">
                <a:moveTo>
                  <a:pt x="258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468" y="20200"/>
                </a:lnTo>
                <a:close/>
              </a:path>
              <a:path fill="lighten" w="258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868" h="21600">
                <a:moveTo>
                  <a:pt x="5928" y="7493"/>
                </a:moveTo>
                <a:lnTo>
                  <a:pt x="9435" y="7493"/>
                </a:lnTo>
                <a:lnTo>
                  <a:pt x="9435" y="12828"/>
                </a:lnTo>
                <a:cubicBezTo>
                  <a:pt x="9435" y="13751"/>
                  <a:pt x="10236" y="14482"/>
                  <a:pt x="11272" y="14482"/>
                </a:cubicBezTo>
                <a:lnTo>
                  <a:pt x="12934" y="14482"/>
                </a:lnTo>
                <a:cubicBezTo>
                  <a:pt x="13970" y="14482"/>
                  <a:pt x="14771" y="13751"/>
                  <a:pt x="14771" y="12828"/>
                </a:cubicBezTo>
                <a:lnTo>
                  <a:pt x="14771" y="7493"/>
                </a:lnTo>
                <a:lnTo>
                  <a:pt x="12934" y="7493"/>
                </a:lnTo>
                <a:lnTo>
                  <a:pt x="16442" y="3985"/>
                </a:lnTo>
                <a:lnTo>
                  <a:pt x="20115" y="7493"/>
                </a:lnTo>
                <a:lnTo>
                  <a:pt x="18278" y="7493"/>
                </a:lnTo>
                <a:lnTo>
                  <a:pt x="18278" y="12828"/>
                </a:lnTo>
                <a:cubicBezTo>
                  <a:pt x="18278" y="15596"/>
                  <a:pt x="15702" y="18155"/>
                  <a:pt x="12934" y="18155"/>
                </a:cubicBezTo>
                <a:lnTo>
                  <a:pt x="11272" y="18155"/>
                </a:lnTo>
                <a:cubicBezTo>
                  <a:pt x="8504" y="18155"/>
                  <a:pt x="5928" y="15596"/>
                  <a:pt x="5928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4" name="TextBox 7"/>
          <p:cNvSpPr/>
          <p:nvPr/>
        </p:nvSpPr>
        <p:spPr>
          <a:xfrm>
            <a:off x="1285920" y="214200"/>
            <a:ext cx="71438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Изучение нормативных документов, определяющих содержание КИМов ЕГЭ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Знакомство со структурой и содержанием экзаменационной работы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ыявление тем, типов заданий, которые не представлены или недостаточно представлены – в учебниках, в связи с чем вносятся коррективы в тематическое планирование изучения программного материала и тематику внеклассных занятий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Выявление тем, вызвавших наибольшее затруднение, на основе анализа федеральной предметной комиссии решения работ выпускников предыдущих лет. Подбор материала для подготовки учащихся к следующему экзамену.  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66"/>
                </a:solidFill>
                <a:latin typeface="Times New Roman"/>
              </a:rPr>
              <a:t>Знакомство и использование учебников, позволяющих осуществить обучение учащихся на различных уровнях, соответствующих содержанию ЕГЭ.</a:t>
            </a: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7" descr="Незнайка_2"/>
          <p:cNvPicPr/>
          <p:nvPr/>
        </p:nvPicPr>
        <p:blipFill>
          <a:blip r:embed="rId1"/>
          <a:stretch/>
        </p:blipFill>
        <p:spPr>
          <a:xfrm>
            <a:off x="142920" y="4357800"/>
            <a:ext cx="1938240" cy="250020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5">
            <a:hlinkClick r:id="" action="ppaction://hlinkshowjump?jump=previousslide"/>
          </p:cNvPr>
          <p:cNvSpPr/>
          <p:nvPr/>
        </p:nvSpPr>
        <p:spPr>
          <a:xfrm>
            <a:off x="838836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7493"/>
                </a:moveTo>
                <a:lnTo>
                  <a:pt x="10045" y="7493"/>
                </a:lnTo>
                <a:lnTo>
                  <a:pt x="10045" y="12828"/>
                </a:lnTo>
                <a:cubicBezTo>
                  <a:pt x="10045" y="13751"/>
                  <a:pt x="10846" y="14482"/>
                  <a:pt x="11882" y="14482"/>
                </a:cubicBezTo>
                <a:lnTo>
                  <a:pt x="13544" y="14482"/>
                </a:lnTo>
                <a:cubicBezTo>
                  <a:pt x="14580" y="14482"/>
                  <a:pt x="15380" y="13751"/>
                  <a:pt x="15380" y="12828"/>
                </a:cubicBezTo>
                <a:lnTo>
                  <a:pt x="15380" y="7493"/>
                </a:lnTo>
                <a:lnTo>
                  <a:pt x="13544" y="7493"/>
                </a:lnTo>
                <a:lnTo>
                  <a:pt x="17052" y="3985"/>
                </a:lnTo>
                <a:lnTo>
                  <a:pt x="20724" y="7493"/>
                </a:lnTo>
                <a:lnTo>
                  <a:pt x="18888" y="7493"/>
                </a:lnTo>
                <a:lnTo>
                  <a:pt x="18888" y="12828"/>
                </a:lnTo>
                <a:cubicBezTo>
                  <a:pt x="18888" y="15596"/>
                  <a:pt x="16312" y="18155"/>
                  <a:pt x="13544" y="18155"/>
                </a:cubicBezTo>
                <a:lnTo>
                  <a:pt x="11882" y="18155"/>
                </a:lnTo>
                <a:cubicBezTo>
                  <a:pt x="9114" y="18155"/>
                  <a:pt x="6537" y="15596"/>
                  <a:pt x="6537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7" name="Прямоугольник 4"/>
          <p:cNvSpPr/>
          <p:nvPr/>
        </p:nvSpPr>
        <p:spPr>
          <a:xfrm>
            <a:off x="2143080" y="642960"/>
            <a:ext cx="6715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оведение пробных ЕГЭ, обсуждение результатов пробных ЕГЭ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Творческая презентация опыта по подготовки учащихся к ЕГЭ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Выработка совместных рекомендаций учителю-предметнику по стратегиям подготовки учащихся к ЕГЭ (с учетом психологических особенностей учащихся)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рактикумы по решению заданий повышенной сложности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сихологические особенности 11-классников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График консультаций учителей предметников, психолога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AutoShape 4">
            <a:hlinkClick r:id="" action="ppaction://hlinkshowjump?jump=previousslide"/>
          </p:cNvPr>
          <p:cNvSpPr/>
          <p:nvPr/>
        </p:nvSpPr>
        <p:spPr>
          <a:xfrm>
            <a:off x="755640" y="6165720"/>
            <a:ext cx="360360" cy="28764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640"/>
              <a:gd name="textAreaBottom" fmla="*/ 269280 h 287640"/>
            </a:gdLst>
            <a:ahLst/>
            <a:rect l="textAreaLeft" t="textAreaTop" r="textAreaRight" b="textAreaBottom"/>
            <a:pathLst>
              <a:path w="27054" h="21600">
                <a:moveTo>
                  <a:pt x="0" y="0"/>
                </a:moveTo>
                <a:lnTo>
                  <a:pt x="27054" y="0"/>
                </a:lnTo>
                <a:lnTo>
                  <a:pt x="27054" y="21600"/>
                </a:lnTo>
                <a:lnTo>
                  <a:pt x="0" y="21600"/>
                </a:lnTo>
                <a:close/>
              </a:path>
              <a:path fill="lightenLess" w="27054" h="21600">
                <a:moveTo>
                  <a:pt x="0" y="0"/>
                </a:moveTo>
                <a:lnTo>
                  <a:pt x="27054" y="0"/>
                </a:lnTo>
                <a:lnTo>
                  <a:pt x="25654" y="1400"/>
                </a:lnTo>
                <a:lnTo>
                  <a:pt x="1400" y="1400"/>
                </a:lnTo>
                <a:close/>
              </a:path>
              <a:path fill="darken" w="27054" h="21600">
                <a:moveTo>
                  <a:pt x="27054" y="0"/>
                </a:moveTo>
                <a:lnTo>
                  <a:pt x="27054" y="21600"/>
                </a:lnTo>
                <a:lnTo>
                  <a:pt x="25654" y="20200"/>
                </a:lnTo>
                <a:lnTo>
                  <a:pt x="25654" y="1400"/>
                </a:lnTo>
                <a:close/>
              </a:path>
              <a:path fill="darkenLess" w="27054" h="21600">
                <a:moveTo>
                  <a:pt x="27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54" y="20200"/>
                </a:lnTo>
                <a:close/>
              </a:path>
              <a:path fill="lighten" w="27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54" h="21600">
                <a:moveTo>
                  <a:pt x="6521" y="7493"/>
                </a:moveTo>
                <a:lnTo>
                  <a:pt x="10028" y="7493"/>
                </a:lnTo>
                <a:lnTo>
                  <a:pt x="10028" y="12828"/>
                </a:lnTo>
                <a:cubicBezTo>
                  <a:pt x="10028" y="13751"/>
                  <a:pt x="10829" y="14482"/>
                  <a:pt x="11865" y="14482"/>
                </a:cubicBezTo>
                <a:lnTo>
                  <a:pt x="13527" y="14482"/>
                </a:lnTo>
                <a:cubicBezTo>
                  <a:pt x="14563" y="14482"/>
                  <a:pt x="15363" y="13751"/>
                  <a:pt x="15363" y="12828"/>
                </a:cubicBezTo>
                <a:lnTo>
                  <a:pt x="15363" y="7493"/>
                </a:lnTo>
                <a:lnTo>
                  <a:pt x="13527" y="7493"/>
                </a:lnTo>
                <a:lnTo>
                  <a:pt x="17035" y="3985"/>
                </a:lnTo>
                <a:lnTo>
                  <a:pt x="20708" y="7493"/>
                </a:lnTo>
                <a:lnTo>
                  <a:pt x="18871" y="7493"/>
                </a:lnTo>
                <a:lnTo>
                  <a:pt x="18871" y="12828"/>
                </a:lnTo>
                <a:cubicBezTo>
                  <a:pt x="18871" y="15596"/>
                  <a:pt x="16295" y="18155"/>
                  <a:pt x="13527" y="18155"/>
                </a:cubicBezTo>
                <a:lnTo>
                  <a:pt x="11865" y="18155"/>
                </a:lnTo>
                <a:cubicBezTo>
                  <a:pt x="9097" y="18155"/>
                  <a:pt x="6521" y="15596"/>
                  <a:pt x="6521" y="12828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299" name="Прямоугольник 2"/>
          <p:cNvSpPr/>
          <p:nvPr/>
        </p:nvSpPr>
        <p:spPr>
          <a:xfrm>
            <a:off x="1357200" y="785880"/>
            <a:ext cx="7429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Знакомство с Положением об итоговой аттестации, Положением о ЕГЭ, спецификацией экзаменационных работ и другими нормативно-правовыми документами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авила поведения на экзамене; 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Правила заполнения бланков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66"/>
                </a:solidFill>
                <a:latin typeface="Times New Roman"/>
              </a:rPr>
              <a:t>Расписание работы кабинета информатики (часы свободного доступа к ресурсам Интернет)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4">
            <a:hlinkClick r:id="" action="ppaction://hlinkshowjump?jump=previousslide"/>
          </p:cNvPr>
          <p:cNvSpPr/>
          <p:nvPr/>
        </p:nvSpPr>
        <p:spPr>
          <a:xfrm>
            <a:off x="826920" y="6165720"/>
            <a:ext cx="360360" cy="43200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432000"/>
              <a:gd name="textAreaBottom" fmla="*/ 408960 h 432000"/>
            </a:gdLst>
            <a:ahLst/>
            <a:rect l="textAreaLeft" t="textAreaTop" r="textAreaRight" b="textAreaBottom"/>
            <a:pathLst>
              <a:path w="21600" h="25890">
                <a:moveTo>
                  <a:pt x="0" y="0"/>
                </a:moveTo>
                <a:lnTo>
                  <a:pt x="21600" y="0"/>
                </a:lnTo>
                <a:lnTo>
                  <a:pt x="21600" y="25890"/>
                </a:lnTo>
                <a:lnTo>
                  <a:pt x="0" y="25890"/>
                </a:lnTo>
                <a:close/>
              </a:path>
              <a:path fill="lightenLess" w="21600" h="258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890">
                <a:moveTo>
                  <a:pt x="21600" y="0"/>
                </a:moveTo>
                <a:lnTo>
                  <a:pt x="21600" y="25890"/>
                </a:lnTo>
                <a:lnTo>
                  <a:pt x="20200" y="24490"/>
                </a:lnTo>
                <a:lnTo>
                  <a:pt x="20200" y="1400"/>
                </a:lnTo>
                <a:close/>
              </a:path>
              <a:path fill="darkenLess" w="21600" h="25890">
                <a:moveTo>
                  <a:pt x="21600" y="25890"/>
                </a:moveTo>
                <a:lnTo>
                  <a:pt x="0" y="25890"/>
                </a:lnTo>
                <a:lnTo>
                  <a:pt x="1400" y="24490"/>
                </a:lnTo>
                <a:lnTo>
                  <a:pt x="20200" y="24490"/>
                </a:lnTo>
                <a:close/>
              </a:path>
              <a:path fill="lighten" w="21600" h="25890">
                <a:moveTo>
                  <a:pt x="0" y="258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4490"/>
                </a:lnTo>
                <a:close/>
              </a:path>
              <a:path fill="darken" w="21600" h="25890">
                <a:moveTo>
                  <a:pt x="3794" y="9638"/>
                </a:moveTo>
                <a:lnTo>
                  <a:pt x="7301" y="9638"/>
                </a:lnTo>
                <a:lnTo>
                  <a:pt x="7301" y="14973"/>
                </a:lnTo>
                <a:cubicBezTo>
                  <a:pt x="7301" y="15895"/>
                  <a:pt x="8102" y="16627"/>
                  <a:pt x="9138" y="16627"/>
                </a:cubicBezTo>
                <a:lnTo>
                  <a:pt x="10800" y="16627"/>
                </a:lnTo>
                <a:cubicBezTo>
                  <a:pt x="11836" y="16627"/>
                  <a:pt x="12636" y="15895"/>
                  <a:pt x="12636" y="14973"/>
                </a:cubicBezTo>
                <a:lnTo>
                  <a:pt x="12636" y="9638"/>
                </a:lnTo>
                <a:lnTo>
                  <a:pt x="10800" y="9638"/>
                </a:lnTo>
                <a:lnTo>
                  <a:pt x="14308" y="6130"/>
                </a:lnTo>
                <a:lnTo>
                  <a:pt x="17981" y="9638"/>
                </a:lnTo>
                <a:lnTo>
                  <a:pt x="16144" y="9638"/>
                </a:lnTo>
                <a:lnTo>
                  <a:pt x="16144" y="14973"/>
                </a:lnTo>
                <a:cubicBezTo>
                  <a:pt x="16144" y="17741"/>
                  <a:pt x="13568" y="20300"/>
                  <a:pt x="10800" y="20300"/>
                </a:cubicBezTo>
                <a:lnTo>
                  <a:pt x="9138" y="20300"/>
                </a:lnTo>
                <a:cubicBezTo>
                  <a:pt x="6370" y="20300"/>
                  <a:pt x="3794" y="17741"/>
                  <a:pt x="3794" y="14973"/>
                </a:cubicBezTo>
                <a:close/>
              </a:path>
            </a:pathLst>
          </a:cu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  <p:sp>
        <p:nvSpPr>
          <p:cNvPr id="301" name="Прямоугольник 2"/>
          <p:cNvSpPr/>
          <p:nvPr/>
        </p:nvSpPr>
        <p:spPr>
          <a:xfrm>
            <a:off x="1500120" y="766800"/>
            <a:ext cx="7286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Знакомство с Положением об итоговой аттестации, Положением о ЕГЭ, спецификацией экзаменационных работ и другими нормативно-правовыми документами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Информирование родителей о процедуре ЕГЭ, особенностях подготовки к тестовой форме сдачи экзаменов. Информирование о ресурсах Интернет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Информирование о результатах  текущей успеваемости учащихся, итоговой аттестации, пробного внутришкольного ЕГЭ;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  <a:p>
            <a:pPr>
              <a:buClr>
                <a:srgbClr val="66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0066"/>
                </a:solidFill>
                <a:latin typeface="Times New Roman"/>
              </a:rPr>
              <a:t>Пункт проведения экзамена, вопросы проведения  районного или областного пробного ЕГЭ.</a:t>
            </a:r>
            <a:endParaRPr b="0" lang="en-US" sz="2400" spc="-1" strike="noStrike" u="sng">
              <a:solidFill>
                <a:srgbClr val="660066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0T17:19:52Z</dcterms:created>
  <dc:creator>igor</dc:creator>
  <dc:description/>
  <dc:language>en-US</dc:language>
  <cp:lastModifiedBy>B</cp:lastModifiedBy>
  <dcterms:modified xsi:type="dcterms:W3CDTF">2009-01-23T07:50:42Z</dcterms:modified>
  <cp:revision>181</cp:revision>
  <dc:subject/>
  <dc:title>Слайд 1</dc:title>
</cp:coreProperties>
</file>