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10.gif" ContentType="image/gif"/>
  <Override PartName="/ppt/media/image6.png" ContentType="image/png"/>
  <Override PartName="/ppt/media/image11.png" ContentType="image/png"/>
  <Override PartName="/ppt/media/image7.gif" ContentType="image/gif"/>
  <Override PartName="/ppt/media/image9.gif" ContentType="image/gif"/>
  <Override PartName="/ppt/media/image12.png" ContentType="image/png"/>
  <Override PartName="/ppt/media/image13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D03-FC85-482C-AD1E-20CB9B5D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724-27D8-4637-98A6-A5E85A8A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E30-D90F-49D6-A6C1-BDF5392A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42F-2B91-455F-9C90-E9CAC487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CAF2-6D3D-4E5B-B13F-7D23D589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21CB-D700-456D-BBF8-AFA48927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CE96-D1BB-4708-97E7-2D89B623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9693-5980-42FB-9382-70F33491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260E-71E4-463E-892A-752FBDEE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C466-9A10-422B-B6D4-70AC5CC5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5FB1-EF40-4307-87BD-3B445A0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7B9-CB97-4AE2-8F37-2DF5C603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BC19-45B0-471A-B2C0-385D6DE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DF68-F61F-447F-BD89-DBF3230C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FCD9-D494-4BBF-A057-C24D03A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0603-0662-43B2-9D60-6D7535AE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9588-0967-4CEE-B83C-0D2BB659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E2820-605D-4C1D-86B4-746CAF7F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7A89-1CA7-4E8E-ABDF-F8FFBD82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BCDE4-D9E7-4B34-A6E9-47C8DCB9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7124-8639-4589-8BD0-365FB3DE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1857-AB97-4948-97F4-892F57A7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070-D2C5-4C87-A82E-435C85FD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6F09A-3CF0-469B-AE82-AFCCEEA4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C806-A99D-41C4-BD5D-C395C55C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0C25-FE57-40AA-9F09-9E9D9143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E5E68-DB77-47A3-99A8-729C0141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45E57-EE56-4260-9982-4BB1F2AD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B8ED5-F999-43F6-8B6B-E68A67C2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EE23-D459-42FF-9D24-1E07AA00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DF571-B2CB-4F6C-A7FF-6243BB1A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7537-4752-497F-9090-FD281BA7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C4AD-68BF-4E4D-A0C5-F4E0C808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B9E-F1B4-48F4-9076-3F94EFAD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C011E-AA91-47C8-8AF1-43B1F8D1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FB4C8-FCCB-4010-A3CF-5140D2E3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7656B-2592-49ED-96F9-A058D97F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43DA-EA10-419E-A757-353DFC5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D564-A874-4799-9F91-0839F6D5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E9AE-7398-4889-A00F-5C6A73E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2C900-13C2-4DF0-B86D-B0968692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56DB-66A8-4A4F-8B6B-05A7AFBE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9068-A430-4807-9021-2DEFABA5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64C-59B5-48AA-8648-EB1D2664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A4C-5470-44FE-8A81-8F416EE6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7A5-B524-48BE-A83A-194110AA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451-FA7B-4421-B601-C1CB4457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78D-3FF9-4A9A-A0AA-8FC28132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3387-471A-4FA9-B5E9-B4D1ED1189B4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3415-42F5-41F0-9066-66CE9D1BA9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  <p:pic>
          <p:nvPicPr>
            <p:cNvPr id="142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144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45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146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FA84-2EC8-4F87-9D0A-CA530D9D0A05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grpSp>
        <p:nvGrpSpPr>
          <p:cNvPr id="18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19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19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grpSp>
          <p:nvGrpSpPr>
            <p:cNvPr id="19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9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9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9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9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</p:grpSp>
      <p:grpSp>
        <p:nvGrpSpPr>
          <p:cNvPr id="19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0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grpSp>
          <p:nvGrpSpPr>
            <p:cNvPr id="20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0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0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0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0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0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</p:grpSp>
      <p:sp>
        <p:nvSpPr>
          <p:cNvPr id="20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E05E-AA69-41B8-B2AA-A147D10E07B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224000" y="5716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66"/>
                </a:solidFill>
                <a:latin typeface="Impact"/>
              </a:rPr>
              <a:t>Многогранники</a:t>
            </a:r>
            <a:endParaRPr b="0" lang="en-US" sz="66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53" name="Picture 5" descr="рав Мног в ряд"/>
          <p:cNvPicPr/>
          <p:nvPr/>
        </p:nvPicPr>
        <p:blipFill>
          <a:blip r:embed="rId1"/>
          <a:stretch/>
        </p:blipFill>
        <p:spPr>
          <a:xfrm>
            <a:off x="1042920" y="4292640"/>
            <a:ext cx="81010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3716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0066"/>
                </a:solidFill>
                <a:latin typeface="Goudy Stout"/>
              </a:rPr>
              <a:t>Защита проектов:</a:t>
            </a:r>
            <a:endParaRPr b="0" lang="en-US" sz="66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WordArt 2" descr=""/>
          <p:cNvPicPr/>
          <p:nvPr/>
        </p:nvPicPr>
        <p:blipFill>
          <a:blip r:embed="rId1"/>
          <a:stretch/>
        </p:blipFill>
        <p:spPr>
          <a:xfrm>
            <a:off x="109440" y="2359080"/>
            <a:ext cx="8674200" cy="451800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3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7380360" y="90792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6084720" y="54936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3276720" y="234936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4" name="AutoShape 9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5" name="AutoShape 10"/>
          <p:cNvSpPr/>
          <p:nvPr/>
        </p:nvSpPr>
        <p:spPr>
          <a:xfrm>
            <a:off x="1116000" y="24922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6" name="AutoShape 11"/>
          <p:cNvSpPr/>
          <p:nvPr/>
        </p:nvSpPr>
        <p:spPr>
          <a:xfrm>
            <a:off x="539640" y="54936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7" name="AutoShape 12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250920" y="189000"/>
            <a:ext cx="4968720" cy="2104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Домашнее задание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: </a:t>
            </a:r>
            <a:endParaRPr b="0" lang="en-US" sz="4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Доработка проекта</a:t>
            </a:r>
            <a:endParaRPr b="0" lang="en-US" sz="4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pic>
        <p:nvPicPr>
          <p:cNvPr id="369" name="Picture 15" descr="88b"/>
          <p:cNvPicPr/>
          <p:nvPr/>
        </p:nvPicPr>
        <p:blipFill>
          <a:blip r:embed="rId3"/>
          <a:stretch/>
        </p:blipFill>
        <p:spPr>
          <a:xfrm>
            <a:off x="6681960" y="3789360"/>
            <a:ext cx="2268360" cy="291636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16"/>
          <p:cNvSpPr/>
          <p:nvPr/>
        </p:nvSpPr>
        <p:spPr>
          <a:xfrm>
            <a:off x="5867280" y="170028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5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9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71600" y="2599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0066"/>
                </a:solidFill>
                <a:uFillTx/>
                <a:latin typeface="Arial"/>
              </a:rPr>
              <a:t>Задачи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560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560520" indent="-56052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Обобщить и систематизировать знания о многогранниках;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560520" indent="-56052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Подготовиться к контрольной работе;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560520" indent="-56052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Показать применение компьютерных технологий при изучении геометрии.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55" name="Picture 5" descr="7"/>
          <p:cNvPicPr/>
          <p:nvPr/>
        </p:nvPicPr>
        <p:blipFill>
          <a:blip r:embed="rId1"/>
          <a:stretch/>
        </p:blipFill>
        <p:spPr>
          <a:xfrm>
            <a:off x="179280" y="48690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99640" y="692280"/>
            <a:ext cx="769644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cc"/>
                </a:solidFill>
                <a:latin typeface="Comic Sans MS"/>
              </a:rPr>
              <a:t>“</a:t>
            </a:r>
            <a:r>
              <a:rPr b="0" i="1" lang="ru-RU" sz="4400" spc="-1" strike="noStrike">
                <a:solidFill>
                  <a:srgbClr val="0000cc"/>
                </a:solidFill>
                <a:latin typeface="Comic Sans MS"/>
              </a:rPr>
              <a:t>Считай несчастным тот день или тот час, в который ты не усвоил ничего нового и ничего не прибавил к своему образованию”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енский Я.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76000" y="260280"/>
            <a:ext cx="65134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Impact"/>
              </a:rPr>
              <a:t>Щадящий опрос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00000" y="1052640"/>
          <a:ext cx="7777440" cy="944280"/>
        </p:xfrm>
        <a:graphic>
          <a:graphicData uri="http://schemas.openxmlformats.org/drawingml/2006/table">
            <a:tbl>
              <a:tblPr/>
              <a:tblGrid>
                <a:gridCol w="7500960"/>
                <a:gridCol w="276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)  Дайте определение многогранника.</a:t>
                      </a:r>
                      <a:endParaRPr b="0" lang="en-US" sz="2800" spc="-1" strike="noStrike" u="sng">
                        <a:solidFill>
                          <a:srgbClr val="660066"/>
                        </a:solidFill>
                        <a:uFillTx/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 u="sng">
                        <a:solidFill>
                          <a:srgbClr val="660066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 u="sng">
                        <a:solidFill>
                          <a:srgbClr val="660066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70"/>
          <p:cNvSpPr/>
          <p:nvPr/>
        </p:nvSpPr>
        <p:spPr>
          <a:xfrm>
            <a:off x="1187280" y="1197000"/>
            <a:ext cx="741708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Поверхность, составленную из многоугольников и ограничивающую некоторое геометрическое тело, называют многогранной поверхностью или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многогранником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0" name="Text Box 72"/>
          <p:cNvSpPr/>
          <p:nvPr/>
        </p:nvSpPr>
        <p:spPr>
          <a:xfrm>
            <a:off x="1258920" y="501336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1" name="Text Box 73"/>
          <p:cNvSpPr/>
          <p:nvPr/>
        </p:nvSpPr>
        <p:spPr>
          <a:xfrm>
            <a:off x="1116000" y="371628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2) Какой многогранник называют выпуклым?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2" name="Text Box 75"/>
          <p:cNvSpPr/>
          <p:nvPr/>
        </p:nvSpPr>
        <p:spPr>
          <a:xfrm>
            <a:off x="1258920" y="4292640"/>
            <a:ext cx="7416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Многогранник называется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ыпуклым,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если он расположен по одну сторону от плоскости каждой его грани)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     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4" name="Rectangle 1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5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6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7" name="Text Box 131"/>
          <p:cNvSpPr/>
          <p:nvPr/>
        </p:nvSpPr>
        <p:spPr>
          <a:xfrm>
            <a:off x="1187280" y="189000"/>
            <a:ext cx="7705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3) Что называют гранями многогранника?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8" name="Text Box 132"/>
          <p:cNvSpPr/>
          <p:nvPr/>
        </p:nvSpPr>
        <p:spPr>
          <a:xfrm>
            <a:off x="1403280" y="76500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Многоугольники, из которых составлен     многогранник, называют его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гранями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9" name="Text Box 133"/>
          <p:cNvSpPr/>
          <p:nvPr/>
        </p:nvSpPr>
        <p:spPr>
          <a:xfrm>
            <a:off x="1116000" y="1844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4)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Что называют ребрами многогранника?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0" name="Text Box 134"/>
          <p:cNvSpPr/>
          <p:nvPr/>
        </p:nvSpPr>
        <p:spPr>
          <a:xfrm>
            <a:off x="1258920" y="2349360"/>
            <a:ext cx="712944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Стороны граней , называют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рёбрами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1" name="Text Box 135"/>
          <p:cNvSpPr/>
          <p:nvPr/>
        </p:nvSpPr>
        <p:spPr>
          <a:xfrm>
            <a:off x="1187280" y="299736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5) Что называют вершиной многогранника?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2" name="Text Box 136"/>
          <p:cNvSpPr/>
          <p:nvPr/>
        </p:nvSpPr>
        <p:spPr>
          <a:xfrm>
            <a:off x="1332000" y="3429000"/>
            <a:ext cx="7272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Концы рёбер называют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ершинами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многогранника)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3" name="Text Box 137"/>
          <p:cNvSpPr/>
          <p:nvPr/>
        </p:nvSpPr>
        <p:spPr>
          <a:xfrm>
            <a:off x="1042920" y="4365720"/>
            <a:ext cx="81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6)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Что называют диагональю многогранника?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4" name="Text Box 138"/>
          <p:cNvSpPr/>
          <p:nvPr/>
        </p:nvSpPr>
        <p:spPr>
          <a:xfrm>
            <a:off x="1476360" y="4784760"/>
            <a:ext cx="7667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(Отрезок, соединяющий две вершины, не 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надлежащие одной грани, называется 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диагональю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многогранника)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WHICHB"/>
          <p:cNvPicPr/>
          <p:nvPr/>
        </p:nvPicPr>
        <p:blipFill>
          <a:blip r:embed="rId1"/>
          <a:stretch/>
        </p:blipFill>
        <p:spPr>
          <a:xfrm>
            <a:off x="7093080" y="333360"/>
            <a:ext cx="1871640" cy="1111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OMEWORK"/>
          <p:cNvPicPr/>
          <p:nvPr/>
        </p:nvPicPr>
        <p:blipFill>
          <a:blip r:embed="rId2"/>
          <a:stretch/>
        </p:blipFill>
        <p:spPr>
          <a:xfrm>
            <a:off x="0" y="499428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1187280" y="6206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зовите  известные вам многогранники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258920" y="1268280"/>
            <a:ext cx="6985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реди изображённых тел  выберите те, которые являются многогранниками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2627280" y="4508640"/>
            <a:ext cx="61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Какие из них являются призмами?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pic>
        <p:nvPicPr>
          <p:cNvPr id="280" name="Рисунок 7" descr="жж.jpg"/>
          <p:cNvPicPr/>
          <p:nvPr/>
        </p:nvPicPr>
        <p:blipFill>
          <a:blip r:embed="rId3"/>
          <a:srcRect l="3556" t="57002" r="19644" b="9814"/>
          <a:stretch/>
        </p:blipFill>
        <p:spPr>
          <a:xfrm>
            <a:off x="1042920" y="2276640"/>
            <a:ext cx="6429600" cy="221436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12"/>
          <p:cNvSpPr/>
          <p:nvPr/>
        </p:nvSpPr>
        <p:spPr>
          <a:xfrm>
            <a:off x="7740720" y="2276640"/>
            <a:ext cx="1008000" cy="158400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7956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2771640" y="537372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Пирамидами?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1979640" y="4508640"/>
            <a:ext cx="5256360" cy="1296720"/>
          </a:xfrm>
          <a:prstGeom prst="diamond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5435640" y="3716280"/>
            <a:ext cx="3240000" cy="720720"/>
          </a:xfrm>
          <a:prstGeom prst="pi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68360" y="3716280"/>
            <a:ext cx="2808360" cy="720720"/>
          </a:xfrm>
          <a:prstGeom prst="pi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6804000" y="1557360"/>
            <a:ext cx="1727280" cy="720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324000" y="1557360"/>
            <a:ext cx="1368360" cy="720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2411280" y="1197000"/>
            <a:ext cx="3600720" cy="1440000"/>
          </a:xfrm>
          <a:prstGeom prst="diamond">
            <a:avLst/>
          </a:prstGeom>
          <a:solidFill>
            <a:srgbClr val="99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2843280" y="404640"/>
            <a:ext cx="2950920" cy="648000"/>
          </a:xfrm>
          <a:prstGeom prst="rect">
            <a:avLst/>
          </a:prstGeom>
          <a:solidFill>
            <a:srgbClr val="99ff99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Comic Sans MS"/>
              </a:rPr>
              <a:t>Призма</a:t>
            </a:r>
            <a:endParaRPr b="0" lang="en-US" sz="4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2987640" y="1484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Перпендикулярны ли боковые ребра основанию?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4211640" y="1052640"/>
            <a:ext cx="0" cy="1443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3" name="Line 11"/>
          <p:cNvSpPr/>
          <p:nvPr/>
        </p:nvSpPr>
        <p:spPr>
          <a:xfrm flipH="1">
            <a:off x="1692000" y="1916280"/>
            <a:ext cx="7189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1763640" y="1484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да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6012000" y="19162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012000" y="155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нет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468360" y="1773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Прямая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20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Наклонная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9" name="Line 17"/>
          <p:cNvSpPr/>
          <p:nvPr/>
        </p:nvSpPr>
        <p:spPr>
          <a:xfrm>
            <a:off x="1042920" y="2276640"/>
            <a:ext cx="0" cy="431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0" name="Line 18"/>
          <p:cNvSpPr/>
          <p:nvPr/>
        </p:nvSpPr>
        <p:spPr>
          <a:xfrm>
            <a:off x="7667640" y="2276640"/>
            <a:ext cx="0" cy="431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1" name="Text Box 19"/>
          <p:cNvSpPr/>
          <p:nvPr/>
        </p:nvSpPr>
        <p:spPr>
          <a:xfrm>
            <a:off x="900000" y="285264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Какими многоугольниками являются боковые грани прямой и наклонной призм?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1042920" y="3284640"/>
            <a:ext cx="0" cy="288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7667640" y="3213000"/>
            <a:ext cx="0" cy="36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826920" y="3645000"/>
            <a:ext cx="244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Comic Sans MS"/>
              </a:rPr>
              <a:t>Боковые грани-прямоугольники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5940360" y="37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Comic Sans MS"/>
              </a:rPr>
              <a:t>Боковые грани-параллелограммы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3132000" y="3933720"/>
            <a:ext cx="1440000" cy="57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2916360" y="4797360"/>
            <a:ext cx="38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Правильный ли многоугольник лежит в основании?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2050920" y="5229360"/>
            <a:ext cx="0" cy="5047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7164360" y="5157720"/>
            <a:ext cx="0" cy="5763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10" name="Text Box 28"/>
          <p:cNvSpPr/>
          <p:nvPr/>
        </p:nvSpPr>
        <p:spPr>
          <a:xfrm>
            <a:off x="1692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да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11" name="Text Box 29"/>
          <p:cNvSpPr/>
          <p:nvPr/>
        </p:nvSpPr>
        <p:spPr>
          <a:xfrm>
            <a:off x="7236000" y="51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Comic Sans MS"/>
              </a:rPr>
              <a:t>нет</a:t>
            </a:r>
            <a:endParaRPr b="0" lang="en-US" sz="1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12" name="Text Box 30"/>
          <p:cNvSpPr/>
          <p:nvPr/>
        </p:nvSpPr>
        <p:spPr>
          <a:xfrm>
            <a:off x="1908000" y="5805360"/>
            <a:ext cx="1943280" cy="7038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Comic Sans MS"/>
              </a:rPr>
              <a:t>Правильная призма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6156360" y="5734080"/>
            <a:ext cx="2232000" cy="7038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mic Sans MS"/>
              </a:rPr>
              <a:t>Неправильная призма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152280" y="3962520"/>
            <a:ext cx="6096240" cy="1904400"/>
            <a:chOff x="152280" y="3962520"/>
            <a:chExt cx="6096240" cy="1904400"/>
          </a:xfrm>
        </p:grpSpPr>
        <p:grpSp>
          <p:nvGrpSpPr>
            <p:cNvPr id="315" name="Group 3"/>
            <p:cNvGrpSpPr/>
            <p:nvPr/>
          </p:nvGrpSpPr>
          <p:grpSpPr>
            <a:xfrm>
              <a:off x="152280" y="3962520"/>
              <a:ext cx="6096240" cy="1904400"/>
              <a:chOff x="152280" y="3962520"/>
              <a:chExt cx="6096240" cy="1904400"/>
            </a:xfrm>
          </p:grpSpPr>
          <p:sp>
            <p:nvSpPr>
              <p:cNvPr id="316" name="Freeform 4"/>
              <p:cNvSpPr/>
              <p:nvPr/>
            </p:nvSpPr>
            <p:spPr>
              <a:xfrm>
                <a:off x="152280" y="3988800"/>
                <a:ext cx="6096240" cy="1878120"/>
              </a:xfrm>
              <a:prstGeom prst="pie">
                <a:avLst/>
              </a:prstGeom>
              <a:solidFill>
                <a:srgbClr val="ff66cc">
                  <a:alpha val="41000"/>
                </a:srgbClr>
              </a:solidFill>
              <a:ln w="936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17" name="Freeform 5"/>
              <p:cNvSpPr/>
              <p:nvPr/>
            </p:nvSpPr>
            <p:spPr>
              <a:xfrm>
                <a:off x="5040720" y="3962520"/>
                <a:ext cx="1207440" cy="1881720"/>
              </a:xfrm>
              <a:prstGeom prst="pie">
                <a:avLst/>
              </a:prstGeom>
              <a:solidFill>
                <a:srgbClr val="ff66cc">
                  <a:alpha val="41000"/>
                </a:srgbClr>
              </a:solidFill>
              <a:ln w="936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18" name="Freeform 6"/>
              <p:cNvSpPr/>
              <p:nvPr/>
            </p:nvSpPr>
            <p:spPr>
              <a:xfrm>
                <a:off x="152280" y="5756400"/>
                <a:ext cx="4905360" cy="97200"/>
              </a:xfrm>
              <a:prstGeom prst="pie">
                <a:avLst/>
              </a:prstGeom>
              <a:solidFill>
                <a:srgbClr val="ff66cc">
                  <a:alpha val="41000"/>
                </a:srgbClr>
              </a:solidFill>
              <a:ln w="936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19" name="Object 3"/>
                <p:cNvSpPr txBox="1"/>
                <p:nvPr/>
              </p:nvSpPr>
              <p:spPr>
                <a:xfrm>
                  <a:off x="5410080" y="4038480"/>
                  <a:ext cx="419400" cy="55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0" name="Freeform 8"/>
          <p:cNvSpPr/>
          <p:nvPr/>
        </p:nvSpPr>
        <p:spPr>
          <a:xfrm>
            <a:off x="1447920" y="4114800"/>
            <a:ext cx="3308400" cy="1447920"/>
          </a:xfrm>
          <a:prstGeom prst="pie">
            <a:avLst/>
          </a:prstGeom>
          <a:solidFill>
            <a:srgbClr val="33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1" name="Freeform 10"/>
          <p:cNvSpPr/>
          <p:nvPr/>
        </p:nvSpPr>
        <p:spPr>
          <a:xfrm>
            <a:off x="1447920" y="1670040"/>
            <a:ext cx="2139840" cy="3282840"/>
          </a:xfrm>
          <a:prstGeom prst="pie">
            <a:avLst/>
          </a:prstGeom>
          <a:noFill/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2" name="Freeform 11"/>
          <p:cNvSpPr/>
          <p:nvPr/>
        </p:nvSpPr>
        <p:spPr>
          <a:xfrm>
            <a:off x="3657600" y="1676520"/>
            <a:ext cx="1098720" cy="3219480"/>
          </a:xfrm>
          <a:prstGeom prst="pie">
            <a:avLst/>
          </a:prstGeom>
          <a:noFill/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3" name="Freeform 12"/>
          <p:cNvSpPr/>
          <p:nvPr/>
        </p:nvSpPr>
        <p:spPr>
          <a:xfrm>
            <a:off x="3632040" y="1670040"/>
            <a:ext cx="27000" cy="2444760"/>
          </a:xfrm>
          <a:prstGeom prst="pie">
            <a:avLst/>
          </a:prstGeom>
          <a:noFill/>
          <a:ln w="9360">
            <a:solidFill>
              <a:srgbClr val="66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4" name="Freeform 13"/>
          <p:cNvSpPr/>
          <p:nvPr/>
        </p:nvSpPr>
        <p:spPr>
          <a:xfrm>
            <a:off x="2451240" y="1676520"/>
            <a:ext cx="1149120" cy="2489040"/>
          </a:xfrm>
          <a:prstGeom prst="pie">
            <a:avLst/>
          </a:prstGeom>
          <a:noFill/>
          <a:ln w="9360">
            <a:solidFill>
              <a:srgbClr val="66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5" name="Freeform 14"/>
          <p:cNvSpPr/>
          <p:nvPr/>
        </p:nvSpPr>
        <p:spPr>
          <a:xfrm>
            <a:off x="1447920" y="4114800"/>
            <a:ext cx="3314520" cy="838080"/>
          </a:xfrm>
          <a:prstGeom prst="pie">
            <a:avLst/>
          </a:prstGeom>
          <a:noFill/>
          <a:ln w="9360">
            <a:solidFill>
              <a:srgbClr val="66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6" name="Freeform 18"/>
          <p:cNvSpPr/>
          <p:nvPr/>
        </p:nvSpPr>
        <p:spPr>
          <a:xfrm>
            <a:off x="2971800" y="1676520"/>
            <a:ext cx="647640" cy="3886200"/>
          </a:xfrm>
          <a:prstGeom prst="pie">
            <a:avLst/>
          </a:prstGeom>
          <a:noFill/>
          <a:ln w="1908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7" name="Freeform 19"/>
          <p:cNvSpPr/>
          <p:nvPr/>
        </p:nvSpPr>
        <p:spPr>
          <a:xfrm>
            <a:off x="1447920" y="4896000"/>
            <a:ext cx="3301920" cy="666720"/>
          </a:xfrm>
          <a:prstGeom prst="pie">
            <a:avLst/>
          </a:prstGeom>
          <a:noFill/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999360" y="4724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9" name="Text Box 28"/>
          <p:cNvSpPr/>
          <p:nvPr/>
        </p:nvSpPr>
        <p:spPr>
          <a:xfrm>
            <a:off x="2564640" y="5445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0" name="Text Box 29"/>
          <p:cNvSpPr/>
          <p:nvPr/>
        </p:nvSpPr>
        <p:spPr>
          <a:xfrm>
            <a:off x="2066400" y="37339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Times New Roman"/>
              </a:rPr>
              <a:t>n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1" name="Text Box 30"/>
          <p:cNvSpPr/>
          <p:nvPr/>
        </p:nvSpPr>
        <p:spPr>
          <a:xfrm>
            <a:off x="3430800" y="114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4580640" y="48006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5029200" y="76320"/>
            <a:ext cx="42670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Многогранник, составленный из     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угольника 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…А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треугольников, называется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пирамидой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5" name="Oval 37"/>
          <p:cNvSpPr/>
          <p:nvPr/>
        </p:nvSpPr>
        <p:spPr>
          <a:xfrm>
            <a:off x="3581280" y="1600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6" name="Freeform 17"/>
          <p:cNvSpPr/>
          <p:nvPr/>
        </p:nvSpPr>
        <p:spPr>
          <a:xfrm>
            <a:off x="1476360" y="1628640"/>
            <a:ext cx="3308400" cy="3892680"/>
          </a:xfrm>
          <a:prstGeom prst="pie">
            <a:avLst/>
          </a:prstGeom>
          <a:solidFill>
            <a:srgbClr val="33cc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7" name="Text Box 38"/>
          <p:cNvSpPr/>
          <p:nvPr/>
        </p:nvSpPr>
        <p:spPr>
          <a:xfrm>
            <a:off x="2821320" y="5335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Вершина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grpSp>
        <p:nvGrpSpPr>
          <p:cNvPr id="338" name="Group 44"/>
          <p:cNvGrpSpPr/>
          <p:nvPr/>
        </p:nvGrpSpPr>
        <p:grpSpPr>
          <a:xfrm>
            <a:off x="3431160" y="1600200"/>
            <a:ext cx="400320" cy="3431520"/>
            <a:chOff x="3431160" y="1600200"/>
            <a:chExt cx="400320" cy="3431520"/>
          </a:xfrm>
        </p:grpSpPr>
        <p:grpSp>
          <p:nvGrpSpPr>
            <p:cNvPr id="339" name="Group 39"/>
            <p:cNvGrpSpPr/>
            <p:nvPr/>
          </p:nvGrpSpPr>
          <p:grpSpPr>
            <a:xfrm>
              <a:off x="3505320" y="1600200"/>
              <a:ext cx="152280" cy="3048120"/>
              <a:chOff x="3505320" y="1600200"/>
              <a:chExt cx="152280" cy="3048120"/>
            </a:xfrm>
          </p:grpSpPr>
          <p:sp>
            <p:nvSpPr>
              <p:cNvPr id="340" name="Freeform 40"/>
              <p:cNvSpPr/>
              <p:nvPr/>
            </p:nvSpPr>
            <p:spPr>
              <a:xfrm>
                <a:off x="3543480" y="1677960"/>
                <a:ext cx="75960" cy="28688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41" name="Oval 41"/>
              <p:cNvSpPr/>
              <p:nvPr/>
            </p:nvSpPr>
            <p:spPr>
              <a:xfrm>
                <a:off x="3581280" y="1600200"/>
                <a:ext cx="76320" cy="77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42" name="Oval 42"/>
              <p:cNvSpPr/>
              <p:nvPr/>
            </p:nvSpPr>
            <p:spPr>
              <a:xfrm>
                <a:off x="3505320" y="4570560"/>
                <a:ext cx="75960" cy="77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343" name="Text Box 43"/>
            <p:cNvSpPr/>
            <p:nvPr/>
          </p:nvSpPr>
          <p:spPr>
            <a:xfrm>
              <a:off x="3431160" y="4572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66"/>
                  </a:solidFill>
                  <a:latin typeface="Times New Roman"/>
                </a:rPr>
                <a:t>Н</a:t>
              </a:r>
              <a:endParaRPr b="0" lang="en-US" sz="24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</p:grpSp>
      <p:sp>
        <p:nvSpPr>
          <p:cNvPr id="344" name="Text Box 45"/>
          <p:cNvSpPr/>
          <p:nvPr/>
        </p:nvSpPr>
        <p:spPr>
          <a:xfrm>
            <a:off x="0" y="9144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ерпендикуляр,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роведенный из вершины пирамиды к плоскости основания, называется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сотой пирамиды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45" name="Text Box 46"/>
          <p:cNvSpPr/>
          <p:nvPr/>
        </p:nvSpPr>
        <p:spPr>
          <a:xfrm>
            <a:off x="4876920" y="1752480"/>
            <a:ext cx="426708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угольная пирамида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Многоугольник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…А</a:t>
            </a:r>
            <a:r>
              <a:rPr b="0" lang="en-US" sz="2400" spc="-1" strike="noStrike" baseline="-25000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снование пирамиды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4876920" y="4419720"/>
            <a:ext cx="42670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Треугольники 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Р,  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Р и т.д. 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оковые грани пирамиды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Отрезки 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Р, 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Р, А</a:t>
            </a:r>
            <a:r>
              <a:rPr b="0" lang="ru-RU" sz="2400" spc="-1" strike="noStrike" baseline="-25000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Р и т .д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оковые ребра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8" descr="CLOCK4"/>
          <p:cNvPicPr/>
          <p:nvPr/>
        </p:nvPicPr>
        <p:blipFill>
          <a:blip r:embed="rId1"/>
          <a:stretch/>
        </p:blipFill>
        <p:spPr>
          <a:xfrm>
            <a:off x="7524720" y="11970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348" name="Токката.mp3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6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50" name="Rectangle 69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51" name="Rectangle 71"/>
          <p:cNvSpPr/>
          <p:nvPr/>
        </p:nvSpPr>
        <p:spPr>
          <a:xfrm rot="18900000">
            <a:off x="250920" y="32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pic>
        <p:nvPicPr>
          <p:cNvPr id="352" name="Picture 263" descr="41"/>
          <p:cNvPicPr/>
          <p:nvPr/>
        </p:nvPicPr>
        <p:blipFill>
          <a:blip r:embed="rId3"/>
          <a:stretch/>
        </p:blipFill>
        <p:spPr>
          <a:xfrm>
            <a:off x="395280" y="260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62" descr="555"/>
          <p:cNvPicPr/>
          <p:nvPr/>
        </p:nvPicPr>
        <p:blipFill>
          <a:blip r:embed="rId4"/>
          <a:stretch/>
        </p:blipFill>
        <p:spPr>
          <a:xfrm>
            <a:off x="7164360" y="544824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1"/>
          <p:cNvSpPr/>
          <p:nvPr/>
        </p:nvSpPr>
        <p:spPr>
          <a:xfrm>
            <a:off x="1403280" y="260280"/>
            <a:ext cx="547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Comic Sans MS"/>
              </a:rPr>
              <a:t>Тест по теме «Многогранники»</a:t>
            </a:r>
            <a:endParaRPr b="0" lang="en-US" sz="4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1042920" y="1916280"/>
            <a:ext cx="6553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) а     2) г      3) б      4) б      5) а      6)  а    7) в      8) г      9) б      10) б</a:t>
            </a:r>
            <a:endParaRPr b="0" lang="en-US" sz="32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ритерии оценок:</a:t>
            </a:r>
            <a:endParaRPr b="0" lang="en-US" sz="32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3»    -       5-6 верных ответов</a:t>
            </a:r>
            <a:endParaRPr b="0" lang="en-US" sz="32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4»    -       7-8  верных ответов</a:t>
            </a:r>
            <a:endParaRPr b="0" lang="en-US" sz="32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    -       9-10 верных ответов</a:t>
            </a:r>
            <a:endParaRPr b="0" lang="en-US" sz="32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7:19:52Z</dcterms:created>
  <dc:creator>igor</dc:creator>
  <dc:description/>
  <dc:language>en-US</dc:language>
  <cp:lastModifiedBy>USER</cp:lastModifiedBy>
  <dcterms:modified xsi:type="dcterms:W3CDTF">2008-06-16T06:41:43Z</dcterms:modified>
  <cp:revision>132</cp:revision>
  <dc:subject/>
  <dc:title>Слайд 1</dc:title>
</cp:coreProperties>
</file>